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19B-6764-4A41-A18C-E6AB02C3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74C-C06C-41FB-AE25-8A6B39DA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C92-1C03-4A00-B050-3E906797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3AB-8F17-4285-B47B-ED43B3C0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B7C-0BA0-4298-84BC-6FA0E728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455-208A-465C-9A40-4DEE9D44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70D-B43F-4860-A151-BE88F425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24F-AD81-4890-AAEB-617E863D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E4C-1441-41CE-A7C0-D644C60E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367-C28E-44AC-8A85-D7C1E737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9A2-4E54-4A5C-9604-6769B88C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2C6-3392-4599-97D8-1027663F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4893-7094-4D61-A1DC-7448DF15D3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2000" y="306864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997360"/>
            <a:ext cx="36831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456000" cy="259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105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1:24Z</dcterms:modified>
  <cp:revision>2</cp:revision>
  <dc:subject/>
  <dc:title>Diapositive 1</dc:title>
</cp:coreProperties>
</file>