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20F-E8A7-466A-A29E-47D1EC48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8A5-3BA4-4AB3-9F72-A084EAB4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D2F-CDCB-41BD-99B4-70A65600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40B-98EB-4ABC-B0CD-278E49C8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CA1-3099-4BF6-9CE4-93586532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46B-0902-4D50-989D-E507BF5C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5C0-C0E1-4C3E-A040-78FF0C48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762-B572-44DC-8791-95FF1182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F7A-D6CA-410C-8BD2-FB0437A6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4F0-7D99-4EE4-9B7E-1ED0BD65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52A4-F9D1-4BAD-B928-CB13AB2A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134-CD8D-4A21-A5F6-CCB79AA8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E71F-F089-4CFE-B2F8-8A8931A344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2000" y="306864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997360"/>
            <a:ext cx="36831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456000" cy="259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05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1:24Z</dcterms:modified>
  <cp:revision>2</cp:revision>
  <dc:subject/>
  <dc:title>Diapositive 1</dc:title>
</cp:coreProperties>
</file>