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C30-0FB6-4884-9881-2404A551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5A6-10E4-4724-8E9C-DEB15910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304A-B60E-43F4-A03C-1FBFC182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7D2A-C878-4FF4-8A0F-272CC49D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41D8-B122-4298-B805-3CCD2B5D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3386-155C-43D9-8F68-61058452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16AC-3310-45E0-9605-9D0D11DE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E2BF-7892-433C-9CC7-ED38C8AF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68BC-C315-4E4F-BC3F-3CE6FE37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0B70-F1D0-4C62-8AD3-FC16D7BD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418C-8E74-4D27-B059-5636391C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831-09D1-428A-9F8E-1AA50492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D704-7E41-43B6-8D49-387E6459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AEE0-A5AF-41C4-BA5D-1483BEAE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2BF6-C36A-4C45-8344-CEC89425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8632-7EE7-447F-8DD2-0ADF9763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ED42-FCC2-4F8F-8621-52E4B425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67A-7872-40B2-A3A8-26B29A1D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C9D-4383-4AFE-B83D-7110DA45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CC71-0EE4-4F95-9AB8-ABCD38F8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12A8-27E4-4072-94EC-FF275445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CB2-2290-4787-B7FE-05DDA36B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1E9-50D4-4330-A742-B99885DA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3DE-FBCB-4013-88D8-4982AE2A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4874-BE8F-4585-9DF5-B02EEFB2D88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F2DD-6D1A-453D-82ED-304AD3C6C51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on nom est: </a:t>
            </a:r>
            <a:br>
              <a:rPr sz="5400"/>
            </a:b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arie-Pier Paris-cloutie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ame Geneviè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 mets préféré est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La lasag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3960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0:35Z</dcterms:created>
  <dc:creator>Marie-Pier</dc:creator>
  <dc:description/>
  <dc:language>en-US</dc:language>
  <cp:lastModifiedBy>Marie-Pier</cp:lastModifiedBy>
  <dcterms:modified xsi:type="dcterms:W3CDTF">2007-11-18T16:54:51Z</dcterms:modified>
  <cp:revision>1</cp:revision>
  <dc:subject/>
  <dc:title>Mon nom est:  Marie-Pier Paris-cloutier</dc:title>
</cp:coreProperties>
</file>