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904-ABB0-4AF0-83D8-0F3AE6A5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717F-6E24-4422-8922-1F2F6969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2309-0729-475B-B6C6-C08BFA47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1761-9F96-4500-85A4-B990507A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E392-1FCE-4DEC-96A1-C3457800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7344-0AB9-4EE8-ABE4-1646C341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09BD-44EF-4165-81EF-6A4521C7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F195-5CE1-459C-9555-CBBB527C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C671-0FEB-49F5-B80C-42D0E695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49D9-342D-4DD5-B7CD-4F84C81F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138B-8FE2-466D-B3FB-0B4AD299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2CE-710B-4720-8BE0-4499043A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125F-D15E-4B56-AD69-5AD3EAAD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31C0-6127-43E9-B68D-5434EC67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7F99-3466-4D70-A9D8-5309F685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FEA3-9C8D-4487-A9FB-2F9EF702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B5FC-E1EF-4400-8268-DF870189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494-A8D4-4E60-9ADE-11FA98CB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CF0D-080C-423B-9678-628933D0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43D5-AA47-488C-8F17-0379FE65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DF1-3CB1-4CC1-88B8-518C126B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B5F-7A9F-4675-9219-D75BA7FD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654-5F42-41D0-AD67-60BD62E7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0AF-F902-4660-8E48-6CF3D8A7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55D4-197F-4C98-AAC9-D02FA3D089C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64D8-DD03-4AC2-AB0E-C1092E9FED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on nom est: </a:t>
            </a:r>
            <a:br>
              <a:rPr sz="5400"/>
            </a:b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arie-Pier Paris-clouti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ame Geneviè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 mets préféré est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La las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96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0:35Z</dcterms:created>
  <dc:creator>Marie-Pier</dc:creator>
  <dc:description/>
  <dc:language>en-US</dc:language>
  <cp:lastModifiedBy>Marie-Pier</cp:lastModifiedBy>
  <dcterms:modified xsi:type="dcterms:W3CDTF">2007-11-18T16:54:51Z</dcterms:modified>
  <cp:revision>1</cp:revision>
  <dc:subject/>
  <dc:title>Mon nom est:  Marie-Pier Paris-cloutier</dc:title>
</cp:coreProperties>
</file>