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8993-B442-46A9-9EB5-BC7D304BC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E444-204F-4EBA-82AA-0E648BEB2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D2CF-E576-4087-913F-09BB83620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E5A4-2BC7-4793-9E18-1A82E5DEB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D1E2E-0225-4C5B-9556-AB6C96FCB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3E24B-C6AF-4962-99BB-DBEBBB278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823DC-CDFA-4A3D-81FB-B811E8873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EDEDB-1A12-4853-9035-66D625EF0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9F85D-59AE-46E8-B0DD-89B4F27EF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40246-35FE-41E9-9D85-BA7A65DE0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2907D-E2D6-4CF2-9FFF-2D0072AF5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C83D-C7D0-4CA9-BF4A-FDC3689C6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02760-159F-4C74-87D8-F2009240A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0462C-5328-4957-B725-51C4B5C83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84767-E4D7-4FCC-B4C7-9ED8E30F1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3F564-DD16-4ED1-83CF-B92A4A209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8A2DC-D504-42D5-8175-CF4B165EA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CFC0-1DCB-46E6-A394-BB1C44DD1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E3C5-6E57-4DED-B5FD-5C461C4E9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8E60-EA7D-4F86-93D3-E514B62CF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DE81-987A-4E8D-82F7-E057ECD97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DD05-C4ED-4BEC-B1E0-A095CD28F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A0CE-9741-470C-AB6A-D9B7FBF2F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8A5A-BE8E-4FDA-9E48-F40C7C500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E6BCB-2825-4551-BCE5-021688F0204C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8971D-EADA-49AE-AC4D-280E38F574EE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5400" spc="-1" strike="noStrike">
                <a:solidFill>
                  <a:srgbClr val="ffffcc"/>
                </a:solidFill>
                <a:latin typeface="Tahoma"/>
              </a:rPr>
              <a:t>Mon nom est: </a:t>
            </a:r>
            <a:br>
              <a:rPr sz="5400"/>
            </a:br>
            <a:r>
              <a:rPr b="0" lang="fr-CA" sz="5400" spc="-1" strike="noStrike">
                <a:solidFill>
                  <a:srgbClr val="ffffcc"/>
                </a:solidFill>
                <a:latin typeface="Tahoma"/>
              </a:rPr>
              <a:t>Marie-Pier Paris-cloutier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 suis dans la classe de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dame Genevièv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98100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Mon mets préféré est: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La lasagn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Voici mon mets préféré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484360" y="2565360"/>
            <a:ext cx="3960720" cy="31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8T16:50:35Z</dcterms:created>
  <dc:creator>Marie-Pier</dc:creator>
  <dc:description/>
  <dc:language>en-US</dc:language>
  <cp:lastModifiedBy>Marie-Pier</cp:lastModifiedBy>
  <dcterms:modified xsi:type="dcterms:W3CDTF">2007-11-18T16:54:51Z</dcterms:modified>
  <cp:revision>1</cp:revision>
  <dc:subject/>
  <dc:title>Mon nom est:  Marie-Pier Paris-cloutier</dc:title>
</cp:coreProperties>
</file>