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F5A8-A858-4E17-BC42-01671A401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292C-059C-4BAE-82BF-B0788E60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D197-F86E-4936-ABC0-9880D59F0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06BA-74D7-40DA-8316-7475F2B03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5824-9676-4B8E-86A3-FF0F64E6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EA61-9C35-4498-A960-1330A1EB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B659-E650-461C-B3B8-0AFF1699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6BE7-3F87-4940-8511-DA58D0BF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ADF1-3636-4458-BEBF-51516E1E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0308-A4B6-4372-8900-E92F7939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16FA-95E5-4E5A-9A7E-059C8D62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6CF4-04CC-4C32-87CA-698C8A70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394A-C5C9-458B-85A0-EE394D1B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5D5E-204D-43E6-BA54-6FAE4224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7D66-2576-4BDD-A4CE-1622B722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C946-8A83-4232-988B-039919ED6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0ADB-C199-460E-A1B0-2EF84843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D3A4-4FD4-484F-9181-73057916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4754-33DD-47F6-9982-705AA44E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13D0-C851-479D-AF2A-A4D56678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0795-98DF-405F-B2C4-E41704E8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4D7C-BFE4-4ABF-BFE8-D056F637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0637-0006-4801-8177-DF855319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44B0-DBD0-4203-8778-C32A470F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0165-A082-420C-90E9-6E1C0310423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266A-60CB-4B8A-9995-45AB81D49B1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5400" spc="-1" strike="noStrike">
                <a:solidFill>
                  <a:srgbClr val="ffffcc"/>
                </a:solidFill>
                <a:latin typeface="Tahoma"/>
              </a:rPr>
              <a:t>Mon nom est: </a:t>
            </a:r>
            <a:br>
              <a:rPr sz="5400"/>
            </a:br>
            <a:r>
              <a:rPr b="0" lang="fr-CA" sz="5400" spc="-1" strike="noStrike">
                <a:solidFill>
                  <a:srgbClr val="ffffcc"/>
                </a:solidFill>
                <a:latin typeface="Tahoma"/>
              </a:rPr>
              <a:t>Marie-Pier Paris-cloutier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dame Geneviè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n mets préféré est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La lasag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ici mon mets préféré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396072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50:35Z</dcterms:created>
  <dc:creator>Marie-Pier</dc:creator>
  <dc:description/>
  <dc:language>en-US</dc:language>
  <cp:lastModifiedBy>Marie-Pier</cp:lastModifiedBy>
  <dcterms:modified xsi:type="dcterms:W3CDTF">2007-11-18T16:54:51Z</dcterms:modified>
  <cp:revision>1</cp:revision>
  <dc:subject/>
  <dc:title>Mon nom est:  Marie-Pier Paris-cloutier</dc:title>
</cp:coreProperties>
</file>