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C79-F257-4662-97A9-D6446CAB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5E4-5A34-4130-B608-92041C0C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8DC-4CCB-4482-A079-A1513D7B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16A-FB8F-4494-929E-E60CC1BD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C0A-1D20-412E-999E-BDF0EA47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4AB-8ABB-43E2-B028-431058FE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03F-18C1-41E7-8EE8-20344065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930-A638-4ECC-A885-93D276A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A7C-6B95-4576-A517-76441BCF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706-106A-44B9-92E9-1A5F4392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CFF-E1BB-4B0E-B935-582415D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B3D-6772-492E-9B35-AE7B002A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8F1B-ED3F-425B-B52F-9113F36A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44:47Z</dcterms:modified>
  <cp:revision>8</cp:revision>
  <dc:subject/>
  <dc:title>Le chien</dc:title>
</cp:coreProperties>
</file>