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678-4638-4A86-A854-90D7F149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6A9-A38A-4088-A142-85AEA9D3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D03-1865-4AF9-ADCC-13941E32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6CD-5C23-4D42-86F5-8E71ED52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A90-4176-4CCE-BFC4-DBA21994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3B6-F80E-4BBD-9265-20F7E5F7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694-7441-4BC2-8119-2E621938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B77-C9AC-43E4-8074-BFAF2F05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DBC-AF08-43E4-A2D2-3C6D8F54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4FA-BD8C-420D-8245-8BC9F927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E35-E240-4C75-A375-B2523466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543-2B0D-446E-98F6-5BA9AE83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BA02-0555-4003-B1D9-C4E44638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44:47Z</dcterms:modified>
  <cp:revision>8</cp:revision>
  <dc:subject/>
  <dc:title>Le chien</dc:title>
</cp:coreProperties>
</file>