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ED09-4C65-4BB2-AA41-418D27D1C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71D6-0E9C-4D31-9F86-1E683FFF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FAE3-9401-4DCC-B5C4-C5F60EA74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A179-EA89-464F-8321-581D53ACD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CEE8-B2B7-4214-B5F4-16E7F971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ACFA-BF4C-494B-915B-63448F13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D8B4-5211-4EEA-BECA-E923D56A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44F3-7CAE-4BF5-A19D-A38CB4FF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87D2-2305-4CEB-AAF5-A30E3F34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FAEF-944B-489C-946E-1993F0A1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2952-4420-406D-866F-8C743A62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AEB3-A482-452D-8773-642F3382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1E0C-1B6E-4634-8413-2A8E3749C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e socc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 soccer est mon sport préféré parce qu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’est un sport d’équipe et j’en profite pour rencontrer mes am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 le pratique de manière ludique ou compétiti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Je le pratique pour le plaisir, mais il arrive que mon équipe joue contre l’équipe du village d’à côt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Marie-Pier</cp:lastModifiedBy>
  <dcterms:modified xsi:type="dcterms:W3CDTF">2007-11-20T17:44:47Z</dcterms:modified>
  <cp:revision>8</cp:revision>
  <dc:subject/>
  <dc:title>Le chien</dc:title>
</cp:coreProperties>
</file>