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13180-31CE-4A50-9705-9A9288BBB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C0DA3-1FD8-4EF6-938E-F06E60E1C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7FB95-DB97-41D9-8F79-224637627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40C75-E0A5-40CA-BF95-BF7651DEF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F6FF6-44E7-4B51-9913-609FFFA4B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2063F-21AE-4D17-A121-1C5EF5B42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86433-49A2-48D2-BCAB-D146A05A8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5A50D-F5B7-476D-BD79-6D1A5849A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74410-4505-416B-8178-DBE562933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020DA-5EAC-40FA-A1ED-741CC5CE2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DA31C-31EC-4E25-8D75-2CAC0E8E6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2E423-D4F2-4E7E-AFAC-2AB755BCB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B1984-2B30-499B-8C6F-DFB1EEE3218A}" type="slidenum">
              <a:rPr b="0" lang="en-C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om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asse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ffffff"/>
                </a:solidFill>
                <a:latin typeface="Arial"/>
              </a:rPr>
              <a:t>Mon sport préféré est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mment je le pratique (ludique ou compétitif) et à quel endroit 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ffff"/>
                </a:solidFill>
                <a:latin typeface="Arial"/>
              </a:rPr>
              <a:t>Pourquoi j’aime ce sport 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1T15:03:49Z</dcterms:created>
  <dc:creator>Generic</dc:creator>
  <dc:description/>
  <dc:language>en-US</dc:language>
  <cp:lastModifiedBy>STI</cp:lastModifiedBy>
  <dcterms:modified xsi:type="dcterms:W3CDTF">2007-11-20T19:01:27Z</dcterms:modified>
  <cp:revision>6</cp:revision>
  <dc:subject/>
  <dc:title>Nom:</dc:title>
</cp:coreProperties>
</file>