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9C5-29B0-41FB-9B3E-5354A3B5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C8B-4C2E-4053-9949-31709D4E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9AF-194B-4FCD-AA3D-045D37E8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445-7234-4FD2-9C71-A9276091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938-4DE5-4654-8584-7DBD29FF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ECE-3E26-4B4A-AC51-E1AB312E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99C-38BE-403D-8CE2-B584D842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1D7-7459-407B-ADAF-07EC5198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462-179B-4050-BF63-BC54E69D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EFC-0502-42B6-9992-0DE3895A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341-82D3-40CD-AE1C-80993A64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96D-5A3A-459E-89E2-431C9C0B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CE6B-CDAC-4C99-A06C-64531E1EEFB3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Mon sport préféré es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 je le pratique (ludique ou compétitif) et à quel endroit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ourquoi j’aime ce spor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03:49Z</dcterms:created>
  <dc:creator>Generic</dc:creator>
  <dc:description/>
  <dc:language>en-US</dc:language>
  <cp:lastModifiedBy>STI</cp:lastModifiedBy>
  <dcterms:modified xsi:type="dcterms:W3CDTF">2007-11-20T19:01:27Z</dcterms:modified>
  <cp:revision>6</cp:revision>
  <dc:subject/>
  <dc:title>Nom:</dc:title>
</cp:coreProperties>
</file>