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DAF5-E66F-4BAB-AE6F-FEC432A2F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6AB8-5A64-407D-8998-A957A574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A888-D8AD-4D79-853B-8981FE94E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289B-72C4-415D-9CE6-7AB661216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DC53-2023-4F9F-BE34-CCCDB6D8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EDF7-F06C-4A78-A3E8-3FE826D4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99E1-A973-46BD-88C3-2146D337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2707-EF7B-49EA-879C-2201C43C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FCF5-79C6-40E8-B81C-946A229C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298A-A40D-40C4-97D1-E42B8B01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99C2-F9EA-4120-AE5E-496F605C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907C-0644-4638-AB14-C3326C2C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C4EE-D0C2-4069-AADC-2786966F5E3F}" type="slidenum">
              <a:rPr b="0" lang="en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m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ass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Mon sport préféré est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ent je le pratique (ludique ou compétitif) et à quel endroit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Pourquoi j’aime ce sport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03:49Z</dcterms:created>
  <dc:creator>Generic</dc:creator>
  <dc:description/>
  <dc:language>en-US</dc:language>
  <cp:lastModifiedBy>STI</cp:lastModifiedBy>
  <dcterms:modified xsi:type="dcterms:W3CDTF">2007-11-20T19:01:27Z</dcterms:modified>
  <cp:revision>6</cp:revision>
  <dc:subject/>
  <dc:title>Nom:</dc:title>
</cp:coreProperties>
</file>