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88F-3E57-447A-8432-23CC9829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BE8-AE25-4B40-AD15-6BF077FC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E6885-6751-44AE-99F3-4AD17A1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96E51-60B6-4FD1-A01A-0CAB8689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7C338-3FFC-46D2-A07B-73E0E95F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1A43B-478C-45E5-BE34-0C41F185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93559-7430-4051-8B0B-146CD6D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35F22-BE0D-49F7-8ABC-2723090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9985D-0DA0-4670-B126-B371C721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FA4E4-68DD-4D3D-9714-F89CBEBD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BE919-FF10-4695-8D79-E2813755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4D73C-D345-45FD-9221-FD966C84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EAD-A004-4B45-948C-AB92445A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6117A-FE7A-4A89-86FA-9B221D1F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339D9-A311-44A4-B276-85B30787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97C52-F471-4949-9B08-ECB4526A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28F53-6AFA-40E0-8D97-A84C2161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3C831-F7D2-435D-906C-234CF00B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CD39D-2C89-4A16-ACC0-D1104E2A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4B8FD-024B-4B9D-8A41-95D4282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9A6A3-1778-4FB3-8F58-D8F0525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0A901-56BD-4DB8-ABE2-41E1E0BC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D165F-1D51-4868-AF31-593CAD8F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4CD-0BDB-4A03-B749-FADF275D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9626B-8FE9-424E-BEBC-7CC22F0F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B765B-7AA3-49E8-AFDD-065B04AC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73E22-2785-4FE4-BE6E-F1FFCE2B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7230A-CE30-48B5-9DED-00F02639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4CF7C-CFCE-4546-BF11-637BAFD8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5778E-881A-4954-A972-83EDA537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BB7FF-1975-4D13-BF18-6F8DAEBF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FD3D9-7278-40A7-9000-EC0C17AD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0AD06-85DB-4308-A345-51A1070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757A4-EF9F-4B5F-8620-D4C80E7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32FC-77F8-440E-8495-E23805DE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AEA4A-5185-4615-B78E-A6BBCC11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03601-A0E3-440C-8BC2-483A1170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4D416-7260-46C7-A746-6AD8DF1F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058B3-5FF6-4BF0-9A05-1E06410A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F4D34-30A6-4318-8AE3-4EB3C75C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5ACEF-36EC-4F35-B2E9-64D00ECC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9FAF6-69BF-4561-81F0-967A4F65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12ABF-E26F-4B9E-996C-5F1A9740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55A0F-6925-4DBB-B451-15C9A893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D9BF0-F590-405D-BAFA-D213A54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1079-AE45-4B9A-8D86-52CE9713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7C8A4-E0E2-4DD2-B224-DBFE0114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E86E4-1854-40DB-BFD6-07A761B4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6255E-B1C3-4693-B367-D3FA527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8D0E8-FB6B-4F3D-920E-8FB1BAFB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3C4E2-FEFF-48EB-A8AF-AE4EECA4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6B2C8-D291-4A23-93B3-5324623B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94895-5715-4C53-B0F2-243BBDA0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236B4-988E-4763-9305-D6EB322F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E799E-6076-40CC-9EF5-39E665E2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71205-17B7-4B21-870B-DB145EB6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8F5D-D69A-4FF2-87A6-3ED315BE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F9078-F1CA-4B67-BC7C-67DAF373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FB525-4DEB-4911-808A-9AEAB32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50D4D-A788-4405-B7D9-96DA04CA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6B9A8-87B0-48E5-B28F-18F0071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B9705-4712-40D0-AC91-518F8A2A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78923-B8DA-4C65-8689-7A3AEFF5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482B1-61A8-4BE7-AF08-71DB8D00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B2FDE-69C3-4F6C-80E7-2AA6F5E1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4691B-B96C-4686-862B-2478FB5B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5B8DC-8766-4DF2-BEDE-CBAB35A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F782-9BDF-41BB-93E9-873989F3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EC03C-1E8F-4D77-AD73-17C760BF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98E60-3681-4353-A5A8-E1A44AEB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950B8-C26F-4EE9-AD79-FE8C450E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7F5A3-A03E-40E1-9361-B2BE4B85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7658A-5542-49AF-B81E-57BE8B5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A0E42-63B6-4D29-8282-54408A2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328A9-5FB9-4F46-990B-C3D536E4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025A1-3131-4F21-BDF6-A3C70F94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EE841-6E93-40E2-9233-4DCD9268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35C1A-B55C-4687-B36C-01B1E605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6C8D-0B33-453A-92F2-8671C75E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83DE8-3713-428F-B177-D5152EAF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1AF3A-91E6-422E-9CD5-5BD84DC9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A911C-D611-4984-85E5-055D75AA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49BEC-88A2-4F91-A112-89140882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D8074-DFA5-4FCE-A0D7-E32B85C1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6113C-82F1-4003-B654-F14908C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EE7F0-045B-49B9-8CD4-E4F4270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C6CDF-17FB-4AC6-BBA2-6C298F6A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B0A0A-A2F2-4084-94FA-3B61334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2A894-3067-4412-A1B1-489A9E81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92F6-CDE6-4E50-8291-D3DC4002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D4B96-7157-4FBF-9AA0-D9A91286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361BD-AC14-45B4-9C49-41A1EC5C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57199B-AFF5-47A6-8FF0-C21F33E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2EB9D-69E3-4595-9500-F7AAEDF3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70FF1-F74D-4E16-B356-CC153B12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32187-2682-4759-B170-69D932AA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6A0F1-D2DE-4F1D-B2A4-BC1A6FDD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8CA6B-DE8F-45D8-AC1B-A4CE0C4B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A2FF3-5030-401A-A606-6D88D97E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00B13-7644-467F-8F1F-65B01446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981A-361C-47F1-B7F8-BBE620DB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67703-1A97-4F6F-9A52-3536272F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75FFE-2622-4B67-B777-14A48EC2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F672A-B502-4DED-98C6-4882C7A6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BBBF6-BFDA-401A-8D01-36A77E1C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42B34D-8510-411A-B289-72CF5AD6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CCE60-8518-4F42-9538-74905E10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9BD70-F2B5-4152-972A-DAC82468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A8E5B-E5B9-44AF-B1AB-7FB91F7F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61E0F-5B2C-492A-89D9-47A7BF5C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5D216-09F0-408E-8EA7-3AFEDECD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BD8-DBA6-4D22-AE02-85100613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7814-B746-4F04-A9B9-02DCF84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365C5-9EC7-4D8E-97A1-F6CB469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226BE-61BB-4306-AAF8-B487BBEB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210DB-3973-4437-BAF9-18C8328A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BFE36-3898-40C0-BC74-0DF1D3B3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488F4-392C-4B76-9D19-C7FE7882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B76E52-2666-4B4A-961E-F5EF3A33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3A10B-4E7D-48D0-A1DB-9EB365C0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B15B70-291B-4A3A-B5A5-A96AB867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B288E-A64E-4EE8-9FBB-DDD8C5DC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34A7E-968A-4E44-ACE0-7FD79F6A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A0ED-576C-4CD0-83BB-41C05D01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9E1D1-9FFD-4D2F-BA91-36EFE50A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B2511-24F4-461D-931E-00A8B0D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D6CE0-E114-43AF-8EFF-12B6FDAE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8F58F-77DB-471D-87B1-A4D0452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6725F5-1533-44A8-BF3E-156B322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04313-7171-42D8-A35A-2F810695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C9F45-8281-4681-971C-5076AF6F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6D4B-37E9-4210-B201-9BEF3535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D0A0-24FB-4232-A93B-98CC3724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5D56-ED5E-4168-A74C-E34F6946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6BCF-7077-48DB-B840-5368424B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34B0-6061-4C22-A50F-A3DDC2D8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9F83-33A8-4124-B408-65CDA9EA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37B0-9670-448F-8A99-AC9FFBBA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9ADC-D9B3-4733-A2B9-A15A7601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678-AA4E-4D6F-B1FD-C6BBCB7A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5D187-2B5D-494A-81FB-78538EEB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7776-DE48-4921-9ADA-9C86B032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E9B9-53CD-4E06-91C8-F1C10321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9F48-30B7-4D3F-BB95-19249B54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C09B-07AA-4CD6-A8DD-B642EF58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F4B1-3758-42D4-8137-37EB9C22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813B-1B04-4F10-A080-CD7403C5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E3B1-C0EE-4D84-92CE-BF01C721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FAFC5-E4D0-4FC6-A732-5C99FD79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E629-D73A-49DF-97F2-04805AF4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6BE-6FF5-4350-8238-F42BC272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41DC-D32D-4E90-B480-EA9248C5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C4D0-C42D-4E0B-8A67-4DCBD840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06721-617E-450F-9227-B30E86AA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E78C-A604-4089-9803-B8F77C4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482FE-4669-4A04-B18D-5D19BB64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4C61-D286-447D-A433-5BDBB272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F160-6973-4216-B9D1-9CB44747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0C029-DA1E-466B-B6B4-8F737EF2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C0515-D52F-4A4B-ABDC-2DA4923B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1B1C9-53E2-42BD-B7CE-515F7D90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182-EC24-4610-BC87-F99E59CF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F62C8-C1AA-4DC9-AC23-E4829AEE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274E2-157C-42D6-9C0D-AB1C0E1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0C19-4EE8-4773-9E0E-76ED567A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16E9-DC6E-4F6F-95AD-98AB3D9A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30385-2767-498D-86BD-11A0D01B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FFDD-307C-4402-B546-A9F4481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3FEF-6136-4BD2-A416-6314F27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2F93-BB02-4B88-AC2B-63F8880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1C8B-F2A1-4071-82EE-8A99F471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5221A-2866-4940-A194-1BDF8FB1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FC6-2A5B-4F72-9EC2-E1B30AC3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75A1A-BCDD-40DB-BD95-562BFC19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646A0-97CC-449E-A6CC-FC8B24D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55F6-40CA-4BDA-8ED2-E6757391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62297-0FD2-421E-A077-6C969C38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E1061-87B6-498C-8F1D-065AADC5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565A7-0303-4735-B1D4-249D5BB5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FA3A8-65D5-4FBB-9F10-92182881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6D6CD-B1B5-4B9A-9C13-0AEBFFA0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7996E-511D-4D8B-AC7A-9DB167C3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177BA-BEB3-46AA-87DB-0EF5EFA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DAE-9D62-44CF-8D80-01811921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CF25-4263-4E8A-9908-8D12D5F1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089AC-8CCD-413B-ABB9-823BBD37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D3863-31F9-4599-8AD7-14C241B4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5FC70-6C84-4843-95BB-4101D8D2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6F205-55F9-4BC2-B846-5BA1A7B0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186FB-2F81-4252-91E0-57EDEBA6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BB94-265D-49D7-88CC-75FFE0CB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1A651-3BF0-4D28-AEDD-8FF5028A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DD6BD-B4D1-408F-9B62-13A72ADE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CBC79-EF5E-4177-B062-D16D2721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688-3F45-49AE-9E14-C0327DED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A1F10-17D1-4AB0-A4C0-D13D50F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C45AA-A061-4075-935B-D87CE4C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7724F-FDAE-4A37-81C3-CA9558AA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9CFCF-4B86-4A84-8ED5-B2B847A6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7BFF-6ECF-40E0-814C-BF1E86A7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B30C-695E-4836-9C8B-1A2FAC77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6A885-6608-41B5-8F89-8090AAF2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13600-D8EF-45C7-B3C4-3BA336E6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E3180-5481-461F-920D-7550D510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109A3-932B-4BCA-8488-4E6A4CF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DCC-495C-4B5E-BB76-A44F3C70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13A05-5227-4057-9531-1D1E3ABE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0E19C-A3DF-49BE-9264-74AABF95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5355-DFBE-4940-953D-9EEAA5FD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7105F-81C2-44EB-8D46-BD6AE6B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407A2-D166-47AF-982B-4649E129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3143B-793C-425D-82A8-8DD71B16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04247-3ACC-408C-8B41-7329C492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E3A8B-4B2E-4AC9-B716-608257EC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4F96E-C5D5-4CAC-929A-88DDC382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CB632-76E2-4AED-8EC4-FFC144C0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908E-2756-4EAF-B2ED-1A2E04D44958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CDD9-DBDA-46A5-9826-4744D3C97FB9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91DE-1242-4A84-BD97-B21E5EAE335D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CAFF-F8B1-4972-BFD9-A5364F441BEC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FBC0-DEBA-4EDA-B24C-76285DDCF948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6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1131-CC21-4B83-8678-1FC6C98D3DA0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A8BF-BE72-4266-8687-AD145352EC5C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62A8-A174-468D-8EF9-F60A16063669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B5C8-E204-4DB6-A436-927CED2B2C8B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80A-E847-4DB4-A227-E2D1885E454E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CEE-F1B1-430E-999A-890FD0EC7002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8F1C-7202-4B00-AA1C-010E4F19DBD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2A27-2DE0-4E4F-98B1-C64323C6B5F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2FAF-0E5E-46FC-B41F-61CF44DAB1D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2D6C-70CD-4648-96A6-51523F69870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C7A2-7CD0-4AFB-9D6A-03C00B36ADB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234D-9DFC-450C-BC18-6C6E8DF96B3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6E1-8C64-4A8A-B6A9-D7581D68816D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99eff1"/>
                </a:solidFill>
                <a:latin typeface="Comic Sans MS"/>
              </a:rPr>
              <a:t>LE QUIZ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Comment faire un quiz avec Powerpoint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b7e7ff"/>
                </a:solidFill>
                <a:latin typeface="Arial"/>
              </a:rPr>
              <a:t>À quoi peut servir le logiciel Powerpoint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971640" y="2565360"/>
            <a:ext cx="734544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faire des présentations oral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jouer à des jeux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présenter des photographi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Toutes ces répons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A et C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b7"/>
                </a:solidFill>
                <a:latin typeface="Comic Sans MS"/>
              </a:rPr>
              <a:t>RÉPONS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a bonne réponse est 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es logiciels de présentation permettent de présenter des documents sous forme de textes, d'images, de vidéos et d'animation à l'aide d'un projecteur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eec94"/>
                </a:solidFill>
                <a:latin typeface="Comic Sans MS"/>
              </a:rPr>
              <a:t>Comment fait-on pour écrire du texte dans un Powerpoint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ouvrir un logiciel spé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écrire dans la zone de tex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peut écrire n’importe o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Toute ces ré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réponse est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and tu écris un texte dans Powerpoint, cela doit être faire dans une ¨zone de texte¨. On peut ajouter ou supprimer des zo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Quel type d’images peut-on insérer dans Powerpoi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a) Tu peux aller les chercher dans le les images cli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b) Tu peux aller les chercher dans un des tes fichiers sur ton ordinateu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c) Tu peux en sauvegarder d’Internet et aller les récupér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D) Toutes ces répo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La réponse est 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Toute ces réponse sont bonnes. Pour insérer une image, tu cliques sur ¨insertion¨, suite sur image et tu choisis la localisation de ton image. Elle apparaîtra dans ta diapositive et tu pourras la déplacer en cliquant dessus et en bougeant ta sour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dbbd71"/>
                </a:solidFill>
                <a:latin typeface="Arial"/>
              </a:rPr>
              <a:t>Comment sauvegarde-t-on notre travai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n’est pas obligatoire de sauvegarder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Nous devons le sauvegarder régulièr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est préférable de sauvegarder, seulement, à la fin de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7d47d"/>
                </a:solidFill>
                <a:latin typeface="Comic Sans MS"/>
              </a:rPr>
              <a:t>Réponse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La réponse est 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Nous devons sauvegarder notre travail régulièrement. On ne sait jamais quand une panne peut arriver. Vaut mieux être prud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*Pour sauvegarder nous devons cliquer sur ¨fichier¨, ensuite ¨sauvegarder sous¨, choisir le bon emplacement de sauvegarde et nommez notre fichier. Ensuite, on clique sur ¨OK¨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37:34Z</dcterms:created>
  <dc:creator>STI</dc:creator>
  <dc:description/>
  <cp:keywords/>
  <dc:language>en-US</dc:language>
  <cp:lastModifiedBy>STI</cp:lastModifiedBy>
  <dcterms:modified xsi:type="dcterms:W3CDTF">2007-11-19T18:14:21Z</dcterms:modified>
  <cp:revision>7</cp:revision>
  <dc:subject/>
  <dc:title>L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6</vt:lpwstr>
  </property>
</Properties>
</file>