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7C3-C81F-43CA-833B-91835845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B8D-2D24-429C-B95F-177C872F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C0BDF-FA1F-4293-B8EA-7687284D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BC1E2-59C9-42B0-92F2-2DF09DC1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A8C82-8673-4A0D-B203-B3940BC8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DBDC6-892B-4099-9F90-6843F5D9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A18F9-F859-4FBB-9B58-441ACE77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D5CD6-8FB7-4301-8494-616E46F9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21528-E6B7-4210-92A5-6E3AFAF4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49F30-61E1-4F07-9A6D-436E87D6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0BE71-031A-44CC-B292-1DC0EBBE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32F40-A149-4F20-8166-BFB87752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FA3-713D-426C-8174-C52F8234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BCC7C-D4AD-4D03-938A-D9F34BD4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71408-A308-4945-BE2D-C312AAF6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8076E-CCEB-4465-9AC0-D40DB3BE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D91EE-E225-412E-B503-44AC5E88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3F64B-9D58-491F-BB52-7F66EC28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C8610-F7B7-4EE6-A93E-81345F2C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F9D29-28EB-4AEE-9BAD-BA8A7931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AF757-6371-41B8-B8CD-5C9CF1C4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3D9F4-785A-471D-B68E-648444D6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B2060-3A3B-4F1E-BE51-8387D02D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3E3-94EA-4A24-8F1C-B263E726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6ADF2-5815-4F19-A0EB-BFE8F49F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C3873-28F1-46EB-ACDB-00F27FEE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F0B5C-93B3-4072-B35A-526D08C3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787D8-A602-428F-AEF3-9F5192CE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DD404-45E7-4B33-B924-228A1597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64A49-22FA-4237-B7D7-E8E76B9C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99771-4265-49EC-87B4-6FC42154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05DE6-7521-4EDD-A7CC-419C9017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615FD-C422-40E0-AA6B-D0BE7CED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C62B6-A2F0-420B-BA2C-C5E36C9C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C1ED-B252-4502-8FE5-1149FCB2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EDD39-496D-4087-9940-93F0EA44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59533-0C2C-471B-8DB0-0E396D8D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471F6-61B2-47A2-9178-48328759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AEDB5-5B1A-41F9-BDA9-34B8C283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67B47-60ED-4893-AFBA-86B717D1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26343-249C-45A8-AA5B-0690A466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843FB-B0D4-46E9-BB3A-95BCAE53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E062F-107D-44CD-B5CA-A3DF6790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40D6D-5A9B-4E65-BB4E-5DFF4107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7DF2D-E95E-4501-9B79-D19C34D0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2FDF-C117-4502-A4A5-C445CABE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1279F-F5BD-4CEC-B982-2DBA5ED1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894C7-0235-44E4-A110-2A75EC15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EF599-7612-42CD-BE54-4FE7F353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7427A-8A7D-49E4-8828-95C4415F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7CBD5-91FA-4B86-8009-83D73749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4A222-1F4C-4291-9D30-2FCC8031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33C26-1B45-4460-B73A-65A53A5D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A61D3-5049-4D59-AEC5-E6795299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90CDF-BA98-474E-94A5-6288C21F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75D9A-4B5F-468C-987C-99F05A07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DFAE-07C3-49AF-BFD2-D3DE7AAE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0F42F-974B-4D2E-8161-5AF6B46D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A4270-F327-4ACD-A5A7-1D75BEED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00923-3B9A-4367-B5B4-BB4DFFE4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B781CB-66C4-4AC7-BE31-53A853E7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E5EF9-B48C-4121-8A80-24441609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D88F2-0E71-43CE-94A0-F1B4A3AE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53FF3-5DBC-4A30-9C26-AEE5B319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9CC5C-4364-411A-A1ED-FC1AC221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7BEF2-65A6-4A24-89F7-0DB9AD34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D0B6A1-C193-483C-AD41-58E50006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6DB8-45CE-4BA9-948D-39F91899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2F273-2283-4969-B3D5-F590AABE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54B8AA-F7B9-4EC0-85A8-CCF57366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CCE11-1C15-4B62-BF66-3A323AB0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DAC9A-B731-429F-9CE3-A1765A0E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23BF1-6F36-4E42-B83C-607387D8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18A35-5AC1-48B4-990B-5DE2C7FC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0485FD-B2E0-4ACD-856C-D65F6813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D9E89-1703-4FD7-8BC9-4A7D75EB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ABD7C-289D-4604-898B-413487D4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F2332-45B5-41DC-85E2-7FF4B5CB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C955-6503-480C-A172-47079BB5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FA72C7-1750-45DD-9FC8-91F3E1A0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B74982-E6B6-4EF3-9324-D34B7DCE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98BCF-2D25-4483-A4D9-ECB97AAC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391F4-585B-46EF-BEE5-E48C2741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82D79B-AA7F-4AC4-8B6B-7128D41C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92AE0-6634-4789-A552-839472CB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6842BA-BFF7-4BA5-8E1B-A0BAE440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17CFD-4659-4290-BFE1-0F46E512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39524A-0510-4AD8-8E33-E202615A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8E3D72-2868-481C-9AE5-77AE1F61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6B7E-D31C-45E0-B3D4-18A6E1B6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D9D73-4944-4AE4-B003-694FD178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69910-BD9A-496B-91F5-274F1BCE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1E5CE-7C4E-4EF2-B7C9-29E0FEFD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451527-2768-4C9F-92F1-5E37A8D6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E46BC1-7936-490E-A80C-7BD9E2FB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B8B88-E9F6-4A11-AF6F-58920281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2ED9FB-2F61-4D2F-941C-A5420415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080A3D-F15B-45FE-A08C-61CEE037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6C155-6013-4AB2-86C9-8953C436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762C38-E60D-4C03-A43E-44F08E67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232F-D4AB-4C86-A659-7A546DA3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FE81FC-9264-4156-8D91-FC373109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71BBB8-54CE-483C-AECA-44289025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EA5C7D-9056-4CD4-8BA4-69F066CB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8E1D93-F9C6-4A29-A500-1882C429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67C915-1115-4FEF-A9ED-AE15BB3B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5587AE-33F6-4362-8417-4A86D416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2E7D1C-667A-4D1F-B822-3BDF3218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2C1507-80DC-4BD2-8DF8-61993172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95DCF-BEBD-4615-A85B-FC9D1096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888497-C11D-4B14-9253-68941B20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FFD-29E9-45C4-B904-5DB08873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CDB8-147F-4F4A-88DA-135A5EE4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82E4C0-B405-43DC-8373-EAFC0233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CE2357-D595-4F38-88B0-D54E4A91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439BBB-15DC-497D-9C64-398DDEA9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29D29D-C3B7-4848-B608-7B0C2C7B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ECE0FA-9DAD-4F82-8CCA-1643F3BC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7DB81A-07D8-4621-81A4-DE875142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0CE0B2-1FB5-466E-9D7E-71A8C6E3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A80FCA-8CD4-44DA-B3AB-64987C2D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3DBF54-B295-4D5A-8CFD-858DD13E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F30E9-4EC6-43B2-B3F2-2FE7884E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547F-13FC-4ABF-B2C2-B9E512B8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2FFBA4-AC8A-469E-99C5-7E221BF3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664006-397D-4115-A58E-2BABA532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A57802-2C51-47CB-8CD4-977F628C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650A60-5BCE-4251-BE94-E45F8C21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4AB0B3-6C92-4CF9-A488-4E30C10B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71FDA8-D5B3-4C39-96B5-D85DE07E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43A8A9-B20B-4DBD-82AE-77DB44F6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3801-25B2-4EA6-93D5-B21C3B87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6088-1B8C-414F-A530-F72543FB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9B4F-CA52-4462-AA45-CCE9C91C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9DF9C-EE51-414C-8214-A0F0D6C1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02E1A-A77B-452F-9985-394A3C38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44BEB-F758-4668-85E5-2C0D112F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8E603-D6EB-4EE4-8A2D-B06A1EE0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C021F-8B13-4532-8868-88FA9F17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2B4-4ADC-4818-A5DA-C8D27FD2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0382-44AA-4E63-A17C-7B48B5F3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7AD6-BDCB-4B5A-BF92-82A73F2E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BC46-C77E-45E3-B8EF-5B75E719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5BDFF-ECCC-4362-9879-9FD5A8E4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80FF4-2766-4B63-B429-2B771091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E08A-47D7-4975-A817-1DF7BE37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509F-1E8B-46C6-B344-D680C0F9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060C8-72D8-4EBD-9B8C-A94FE388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D7E67-3ADA-46F2-AAE3-6F3C7475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6F50E-BFD2-48AC-A981-20B52739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AF0-7072-4C9F-AD5C-8E5696B7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C7861-A9D8-4F61-902E-F6B904D4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7EDB0-4273-427C-8FEA-F461E508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73BA3-629F-483C-924B-1629E92D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C8B55-E811-4A62-B94B-2FC5F8B3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19CAA-D799-4862-9C90-70E2A907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26EC3-0FF1-41DD-80A1-11F76336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A2C05-FCBA-4682-B57E-7792FF4F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A2400-9D9A-44BB-A946-CF96F7CB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31902-424E-4742-9D4E-342C87AE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F16A6-C965-4878-91BB-2ED06FB2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1B2-746A-4CC2-BD49-E1375822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6FE26-6427-41C9-94CD-620472F8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E68E3-C004-4AAE-B9FD-F524C003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D5F25-495C-4333-BF02-B70C11CD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97B14-2953-4C02-B916-A744BABD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42734-54B0-4A0B-AEF8-8F503E98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384FD-9E5D-49AF-A685-8B3FD3C3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AAB37-CC6F-480D-9955-B9EB840E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D642A-C3B6-4B56-8378-8897B083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0B9B2-A5EF-425B-B8FC-E0B4260B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23A36-A8C4-4367-8372-2B0FDE87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F44-FC9D-48FA-BB1F-4576C223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1EAFB-22C5-4D5D-A6B1-6DF1F190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8F822-A191-4A24-B993-58213000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4DAA8-07B8-4F95-8EFC-13D19712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AC5BE-1441-4BE4-BE40-738EA412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AC39A-EDAF-45F2-A4AC-F54AA6DB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CD32A-F1F6-4B85-94D9-9708EE0E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5F1DB-CE68-4358-9D14-A53A1BA2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B5DA0-B428-4BE8-BB6A-801CCE37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D90D1-8644-43B1-B64E-FE11A4B9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949EE-A9FC-4FE5-9B5B-1ED06148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C23-5669-4126-883F-74B21E84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8EEE2-DE32-4DD3-AC34-2DC7DFB2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CDEDC-D0AC-467B-9754-DFBA0EE0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A02E3-7E73-4FFB-9861-902AEEFB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EE97F-E3EB-4526-8C89-C8610006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7ADBD-2C8E-4057-8F24-339C7744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21464-C066-43D3-88E1-D3DA423D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3ADBE-5073-4C68-8B7E-3CB0EAD2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60672-BE4F-4357-B737-D2D7BF02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558A0-297E-4E39-81EE-BDCD83A5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257C3-68AF-48D8-B7DB-B1F0B072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C34-CD83-4A07-9D52-71C10440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74790-D68A-4016-B109-33185E28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FE1BC-1DE0-4DC0-B617-2F995995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F51F6-DD1E-4A4F-B24F-BBFB3F2B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0B120-5EE0-4539-8D97-193DE8B6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4C6D4-2FD0-4112-AC98-ACB6E440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3D580-D1F8-428B-8BC8-8EF3E681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A1E12-C22A-45E1-92E3-EE26368E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D0691-14ED-42C3-8097-0771D1BE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E39A7-CD37-412C-B1FA-64FC51F2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24D49-4F07-4909-B34B-76F2D3B6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B84-7C42-446C-8FE3-C6164B77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25184-9073-4CF3-A2B9-0C4307E4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A4D8E-37FB-4B1B-80CA-9CA80694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15F39-9CAE-4B55-A98C-723153E0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78859-722A-488A-9EE4-F4F89FFB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0321B-CC41-4A92-9233-59EAAF04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43A90-8FDB-4AA9-9D7E-E595994E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B394E-E141-4A53-B99D-B1672787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26828-61D6-4ADD-AD8A-F50D3D30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A7146-7E88-4E40-B024-4E37F38F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14A5A-6EB1-453B-8C97-CD296137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205.xml"/><Relationship Id="rId32" Type="http://schemas.openxmlformats.org/officeDocument/2006/relationships/slideLayout" Target="../slideLayouts/slideLayout206.xml"/><Relationship Id="rId33" Type="http://schemas.openxmlformats.org/officeDocument/2006/relationships/slideLayout" Target="../slideLayouts/slideLayout207.xml"/><Relationship Id="rId34" Type="http://schemas.openxmlformats.org/officeDocument/2006/relationships/slideLayout" Target="../slideLayouts/slideLayout208.xml"/><Relationship Id="rId35" Type="http://schemas.openxmlformats.org/officeDocument/2006/relationships/slideLayout" Target="../slideLayouts/slideLayout209.xml"/><Relationship Id="rId36" Type="http://schemas.openxmlformats.org/officeDocument/2006/relationships/slideLayout" Target="../slideLayouts/slideLayout210.xml"/><Relationship Id="rId37" Type="http://schemas.openxmlformats.org/officeDocument/2006/relationships/slideLayout" Target="../slideLayouts/slideLayout211.xml"/><Relationship Id="rId38" Type="http://schemas.openxmlformats.org/officeDocument/2006/relationships/slideLayout" Target="../slideLayouts/slideLayout212.xml"/><Relationship Id="rId39" Type="http://schemas.openxmlformats.org/officeDocument/2006/relationships/slideLayout" Target="../slideLayouts/slideLayout213.xml"/><Relationship Id="rId40" Type="http://schemas.openxmlformats.org/officeDocument/2006/relationships/slideLayout" Target="../slideLayouts/slideLayout214.xml"/><Relationship Id="rId41" Type="http://schemas.openxmlformats.org/officeDocument/2006/relationships/slideLayout" Target="../slideLayouts/slideLayout215.xml"/><Relationship Id="rId42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B405-58AE-41B5-B79B-EC46D70E3AB8}" type="slidenum"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24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5D06-AC85-49B2-8EF5-DCBA991393DC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6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6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7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7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grpSp>
              <p:nvGrpSpPr>
                <p:cNvPr id="54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35B1-BF77-4A82-ACD9-4B244E3C62EA}" type="slidenum"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4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4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5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5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6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E425-DD75-49D0-892A-37ED8D7419AB}" type="slidenum"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816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D9B1-F08A-4ECA-94D8-48EC5B3955CC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61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9E5A-5A39-4C90-B53A-3831B79F2D3D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0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07E2-F9E0-4B88-8CFF-4B5A4173CB3D}" type="slidenum">
              <a:rPr b="0" lang="fr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8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015" name="PlaceHolder 1"/>
          <p:cNvSpPr>
            <a:spLocks noGrp="1"/>
          </p:cNvSpPr>
          <p:nvPr>
            <p:ph type="dt" idx="4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ftr" idx="4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F2B9-CB3D-45B3-BAC9-84FD15783E5B}" type="slidenum">
              <a:rPr b="0" lang="fr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5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6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6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6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7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8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9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F866-DB78-41DF-8D37-AAAEF660D7D4}" type="slidenum"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B560-F3F5-443D-A05E-C6EDFAE813F0}" type="slidenum"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1"/>
    <p:sldLayoutId id="2147483871" r:id="rId32"/>
    <p:sldLayoutId id="2147483872" r:id="rId33"/>
    <p:sldLayoutId id="2147483873" r:id="rId34"/>
    <p:sldLayoutId id="2147483874" r:id="rId35"/>
    <p:sldLayoutId id="2147483875" r:id="rId36"/>
    <p:sldLayoutId id="2147483876" r:id="rId37"/>
    <p:sldLayoutId id="2147483877" r:id="rId38"/>
    <p:sldLayoutId id="2147483878" r:id="rId39"/>
    <p:sldLayoutId id="2147483879" r:id="rId40"/>
    <p:sldLayoutId id="2147483880" r:id="rId41"/>
    <p:sldLayoutId id="2147483881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D44A-4856-4AEA-8D97-39B4710B54D9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F09A-25AD-4FDB-AF93-7DE86666D365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0AEB-0830-4E26-B25C-5DB8033488B5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DB4F-2B22-4CD6-9C8F-F2DAED4E90BD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13D0-F7D4-439C-AD61-8676CD737C45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AA02-6FC4-4A69-B72F-7C3D09A27CA6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1492-DF35-452C-9E07-F414470F740E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0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1F13-0720-4F50-8A84-1640581D9DC2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99eff1"/>
                </a:solidFill>
                <a:latin typeface="Comic Sans MS"/>
              </a:rPr>
              <a:t>LE QUIZ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</a:rPr>
              <a:t>Comment faire un quiz avec Powerpoint?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b7e7ff"/>
                </a:solidFill>
                <a:latin typeface="Arial"/>
              </a:rPr>
              <a:t>À quoi peut servir le logiciel Powerpoint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971640" y="2565360"/>
            <a:ext cx="734544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faire des présentations oral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jouer à des jeux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présenter des photographi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Toutes ces répons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A et C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b7"/>
                </a:solidFill>
                <a:latin typeface="Comic Sans MS"/>
              </a:rPr>
              <a:t>RÉPONSE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a bonne réponse est 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es logiciels de présentation permettent de présenter des documents sous forme de textes, d'images, de vidéos et d'animation à l'aide d'un projecteur.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eec94"/>
                </a:solidFill>
                <a:latin typeface="Comic Sans MS"/>
              </a:rPr>
              <a:t>Comment fait-on pour écrire du texte dans un Powerpoint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doit ouvrir un logiciel spé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doit écrire dans la zone de tex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peut écrire n’importe o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Toute ces répo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cc"/>
                </a:solidFill>
                <a:latin typeface="Comic Sans MS"/>
              </a:rPr>
              <a:t>Répons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a réponse est 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Quand tu écris un texte dans Powerpoint, cela doit être faire dans une ¨zone de texte¨. On peut ajouter ou supprimer des zon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Quel type d’images peut-on insérer dans Powerpoin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a) Tu peux aller les chercher dans le les images clipa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b) Tu peux aller les chercher dans un des tes fichiers sur ton ordinateu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c) Tu peux en sauvegarder d’Internet et aller les récupér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D) Toutes ces répons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Répons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100" spc="-1" strike="noStrike">
                <a:solidFill>
                  <a:srgbClr val="ffffff"/>
                </a:solidFill>
                <a:latin typeface="Arial"/>
              </a:rPr>
              <a:t>La réponse est 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100" spc="-1" strike="noStrike">
                <a:solidFill>
                  <a:srgbClr val="ffffff"/>
                </a:solidFill>
                <a:latin typeface="Arial"/>
              </a:rPr>
              <a:t>Toute ces réponse sont bonnes. Pour insérer une image, tu cliques sur ¨insertion¨, suite sur image et tu choisis la localisation de ton image. Elle apparaîtra dans ta diapositive et tu pourras la déplacer en cliquant dessus et en bougeant ta souri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dbbd71"/>
                </a:solidFill>
                <a:latin typeface="Arial"/>
              </a:rPr>
              <a:t>Comment sauvegarde-t-on notre travail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n’est pas obligatoire de sauvegarder notre trav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Nous devons le sauvegarder régulièr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est préférable de sauvegarder, seulement, à la fin de notre trav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7d47d"/>
                </a:solidFill>
                <a:latin typeface="Comic Sans MS"/>
              </a:rPr>
              <a:t>Réponse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La réponse est B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Nous devons sauvegarder notre travail régulièrement. On ne sait jamais quand une panne peut arriver. Vaut mieux être prud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*Pour sauvegarder nous devons cliquer sur ¨fichier¨, ensuite ¨sauvegarder sous¨, choisir le bon emplacement de sauvegarde et nommez notre fichier. Ensuite, on clique sur ¨OK¨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6:37:34Z</dcterms:created>
  <dc:creator>STI</dc:creator>
  <dc:description/>
  <cp:keywords/>
  <dc:language>en-US</dc:language>
  <cp:lastModifiedBy>STI</cp:lastModifiedBy>
  <dcterms:modified xsi:type="dcterms:W3CDTF">2007-11-19T18:14:21Z</dcterms:modified>
  <cp:revision>7</cp:revision>
  <dc:subject/>
  <dc:title>L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6</vt:lpwstr>
  </property>
</Properties>
</file>