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6C3-7D6B-497B-AA34-161B48FD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268-6DDC-49F2-977C-3422BC02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23F-D025-40C3-8088-6976A257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3D8-10EC-4639-9C4B-7D89A04A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B4F-7CFF-4B98-9121-094D8C58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BF1-1FA3-439E-A5D2-6D31FDB8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66B-9AA1-4A74-A4BF-779503A7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48E-8AEE-40D7-8CA9-B866E313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3B6-959D-4F4B-BD93-C488B9FC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81C-BBD3-47BD-B508-D91AC779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F79-66D0-4AF2-8873-D00256C0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5AC-6A8C-467B-8A59-4E6E4295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148F-1FC7-4DB2-B7E3-194A22ADB3E0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ffff"/>
                </a:solidFill>
                <a:latin typeface="Arial"/>
              </a:rPr>
              <a:t>Les fruits et les légum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65440" cy="2203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4365720"/>
            <a:ext cx="198900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9820400">
            <a:off x="6227280" y="620280"/>
            <a:ext cx="2536920" cy="152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716360" y="3789360"/>
            <a:ext cx="1262160" cy="118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979640" y="4797360"/>
            <a:ext cx="1868400" cy="161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924360" y="549360"/>
            <a:ext cx="1512720" cy="140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68360" y="328464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e pomm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0290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champignon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7600" y="1916280"/>
            <a:ext cx="404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 chou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8163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 céler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19820400">
            <a:off x="2626920" y="2565000"/>
            <a:ext cx="52023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framboise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3578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e poir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5974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po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1990800"/>
            <a:ext cx="45370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0:16:31Z</dcterms:created>
  <dc:creator>Martine Peters</dc:creator>
  <dc:description/>
  <dc:language>en-US</dc:language>
  <cp:lastModifiedBy>UQAM</cp:lastModifiedBy>
  <dcterms:modified xsi:type="dcterms:W3CDTF">2007-11-04T02:25:31Z</dcterms:modified>
  <cp:revision>7</cp:revision>
  <dc:subject/>
  <dc:title>Les fruits et les légumes</dc:title>
</cp:coreProperties>
</file>