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2C3-8EDA-4FC0-8925-FDC5D12B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279-D1CE-4AAB-91B2-53E4D3F5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514-4AFA-4822-99C1-56053904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4C4-E2A4-4465-B2B5-E393490A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53C-F69A-40BF-A2FD-E9FF9068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6BE-8B9C-4B63-8622-C6842197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C57-F53E-467B-9135-8C97775F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BCC-CCCC-4446-B44B-4140DCDE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AA3-2DD4-49D0-A53A-AA9685E3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436-1E76-4E38-986F-6FB0AED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6CB-18F4-4E2B-9426-1A54DC3B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7B6-026A-406B-A8EE-64C153D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DEC9-6698-452C-800D-09E154CA4259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Arial"/>
              </a:rPr>
              <a:t>Les fruits et les légu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5440" cy="22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98900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820400">
            <a:off x="6227280" y="620280"/>
            <a:ext cx="2536920" cy="15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262160" cy="118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6840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24360" y="549360"/>
            <a:ext cx="151272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284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mm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champigno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7600" y="1916280"/>
            <a:ext cx="404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hou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éler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9820400">
            <a:off x="2626920" y="2565000"/>
            <a:ext cx="52023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framboise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i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597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po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990800"/>
            <a:ext cx="45370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16:31Z</dcterms:created>
  <dc:creator>Martine Peters</dc:creator>
  <dc:description/>
  <dc:language>en-US</dc:language>
  <cp:lastModifiedBy>UQAM</cp:lastModifiedBy>
  <dcterms:modified xsi:type="dcterms:W3CDTF">2007-11-04T02:25:31Z</dcterms:modified>
  <cp:revision>7</cp:revision>
  <dc:subject/>
  <dc:title>Les fruits et les légumes</dc:title>
</cp:coreProperties>
</file>