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BA0-5C26-4AC6-8E84-9AECD912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42F-D0F9-4005-8DCA-78E4780C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D62-20EF-48A0-B081-A48853E8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E95-BCB3-4F7E-A94E-F4FAD4AC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7DA-8367-4C46-98A2-F0A20763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E06-0122-46D1-8617-604AAF3F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DEA-5D70-4D8F-80E7-3CAAE2D1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C09-A461-49C6-B2F3-84EB42A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24C-0492-44A2-9338-005CDCC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7B7-A86B-4C55-A101-FF52314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BE1-C4CE-40B6-BE94-2F28ED8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DC2-22B6-47FB-91DB-BD29E5B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545A-8169-4386-B807-EE3523241C4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Arial"/>
              </a:rPr>
              <a:t>Les fruits et les légum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65440" cy="22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98900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820400">
            <a:off x="6227280" y="620280"/>
            <a:ext cx="2536920" cy="15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1262160" cy="118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79640" y="4797360"/>
            <a:ext cx="186840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24360" y="549360"/>
            <a:ext cx="1512720" cy="14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8360" y="3284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mm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029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champigno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7600" y="1916280"/>
            <a:ext cx="404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hou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16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éler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9820400">
            <a:off x="2626920" y="2565000"/>
            <a:ext cx="52023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framboise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i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5974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po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990800"/>
            <a:ext cx="45370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16:31Z</dcterms:created>
  <dc:creator>Martine Peters</dc:creator>
  <dc:description/>
  <dc:language>en-US</dc:language>
  <cp:lastModifiedBy>UQAM</cp:lastModifiedBy>
  <dcterms:modified xsi:type="dcterms:W3CDTF">2007-11-04T02:25:31Z</dcterms:modified>
  <cp:revision>7</cp:revision>
  <dc:subject/>
  <dc:title>Les fruits et les légumes</dc:title>
</cp:coreProperties>
</file>