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1840" y="688680"/>
            <a:ext cx="4595760" cy="344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move the slide</a:t>
            </a:r>
            <a:endParaRPr b="1" lang="en-US" sz="4400" spc="-1" strike="noStrike">
              <a:solidFill>
                <a:srgbClr val="ff9900"/>
              </a:solidFill>
              <a:latin typeface="Arial"/>
            </a:endParaRPr>
          </a:p>
        </p:txBody>
      </p:sp>
      <p:sp>
        <p:nvSpPr>
          <p:cNvPr id="45"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A923-2539-4046-B2D5-F35A3DC6CE3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14560" y="700200"/>
            <a:ext cx="4581360" cy="3435120"/>
          </a:xfrm>
          <a:prstGeom prst="rect">
            <a:avLst/>
          </a:prstGeom>
          <a:ln w="0">
            <a:noFill/>
          </a:ln>
        </p:spPr>
      </p:sp>
      <p:sp>
        <p:nvSpPr>
          <p:cNvPr id="140" name="PlaceHolder 2"/>
          <p:cNvSpPr>
            <a:spLocks noGrp="1"/>
          </p:cNvSpPr>
          <p:nvPr>
            <p:ph type="body"/>
          </p:nvPr>
        </p:nvSpPr>
        <p:spPr>
          <a:xfrm>
            <a:off x="898200" y="4366800"/>
            <a:ext cx="5011560" cy="413388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Avec ses millions de tonnes de roches, une montagne ne sait rien faire. La souris, au contraire, avec ses quelques dizaines de grammes, est une merveille de l’univers. » tiré du résumé de Marc Berger du livre Patience dans l’azur de H. Ree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31840" y="689040"/>
            <a:ext cx="4595760" cy="3446280"/>
          </a:xfrm>
          <a:prstGeom prst="rect">
            <a:avLst/>
          </a:prstGeom>
          <a:ln w="0">
            <a:noFill/>
          </a:ln>
        </p:spPr>
      </p:sp>
      <p:sp>
        <p:nvSpPr>
          <p:cNvPr id="142" name="PlaceHolder 2"/>
          <p:cNvSpPr>
            <a:spLocks noGrp="1"/>
          </p:cNvSpPr>
          <p:nvPr>
            <p:ph type="body"/>
          </p:nvPr>
        </p:nvSpPr>
        <p:spPr>
          <a:xfrm>
            <a:off x="914400" y="4365360"/>
            <a:ext cx="5029200" cy="4135320"/>
          </a:xfrm>
          <a:prstGeom prst="rect">
            <a:avLst/>
          </a:prstGeom>
          <a:solidFill>
            <a:srgbClr val="ffffff"/>
          </a:solidFill>
          <a:ln w="9360">
            <a:solidFill>
              <a:srgbClr val="000000"/>
            </a:solidFill>
            <a:miter/>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Garamond"/>
              </a:rPr>
              <a:t>Toute la vie sur Terre est composée des mêmes éléments principaux. Les proportions de ces éléments chimiques varie peu. Cette diapositive nous montre les compositions élémentaires de 3 espèces très éloignés. L’homme, la luzerne (</a:t>
            </a:r>
            <a:r>
              <a:rPr b="0" i="1" lang="fr-CA" sz="1200" spc="-1" strike="noStrike">
                <a:solidFill>
                  <a:srgbClr val="000000"/>
                </a:solidFill>
                <a:latin typeface="Garamond"/>
              </a:rPr>
              <a:t>Alfalfa sp.</a:t>
            </a:r>
            <a:r>
              <a:rPr b="0" lang="fr-CA" sz="1200" spc="-1" strike="noStrike">
                <a:solidFill>
                  <a:srgbClr val="000000"/>
                </a:solidFill>
                <a:latin typeface="Garamond"/>
              </a:rPr>
              <a:t>) et une espèce de bactérie sont comparés. Ce tableau nous permet de constater que malgré les formes différentes qu’a adopté la vie sur Terre, le vivant n’est pas si dissemblable que ça. On peut donc supposer qu’un certain lien de parenté, si éloigné qu’il soit, nous unis peut-être? Il faut dire que 3,5 milliards d ’années d ’évolution depuis les premières bactérie (algue bleue) c’est relativement long au niveau de la biosphère terrestre. D ’où origine donc cette vie? Ou mieux quelles étaient les conditions pour permettre l’apparition de la vie à partir des quatre éléments de base CH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BB806-DE9D-4F48-AB66-2BBCB2390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1D8B9-DE0D-4C37-80DD-81962ED3D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7AE2F-B701-4F39-94A1-D099455E1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492CD-3E67-4C34-9E1C-1930EB30A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EDBC2-0AE4-4007-88E7-5A9807E2D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532EB-9E2B-48A1-996B-C7D233FF1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5F4B7-194A-4FAA-A5E2-BD1E6DD62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E195D-0F2F-46B8-880C-A5BD4E08F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B8B65-4566-4F6B-A91C-53E88CF0E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E4CF7-269A-40BB-855D-02BE4C833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14347-BA4A-4955-A8ED-6A7C6A960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14E6D-D9FD-488B-B500-49C1B6676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edit the title text format</a:t>
            </a:r>
            <a:endParaRPr b="1" lang="en-US" sz="4400" spc="-1" strike="noStrike">
              <a:solidFill>
                <a:srgbClr val="ff99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51AF-BBF8-4154-9092-118E69FAF4DD}"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848720" cy="259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9900"/>
                </a:solidFill>
                <a:latin typeface="Arial"/>
              </a:rPr>
              <a:t>BEP 1023</a:t>
            </a:r>
            <a:br>
              <a:rPr sz="4400"/>
            </a:br>
            <a:br>
              <a:rPr sz="4400"/>
            </a:br>
            <a:r>
              <a:rPr b="1" lang="fr-CA" sz="3600" spc="-1" strike="noStrike">
                <a:solidFill>
                  <a:srgbClr val="ff9900"/>
                </a:solidFill>
                <a:latin typeface="Arial"/>
              </a:rPr>
              <a:t>Historique du concept de l’enfance</a:t>
            </a:r>
            <a:endParaRPr b="1" lang="en-US" sz="3600" spc="-1" strike="noStrike">
              <a:solidFill>
                <a:srgbClr val="ff9900"/>
              </a:solidFill>
              <a:latin typeface="Arial"/>
            </a:endParaRPr>
          </a:p>
        </p:txBody>
      </p:sp>
      <p:sp>
        <p:nvSpPr>
          <p:cNvPr id="49" name="PlaceHolder 2"/>
          <p:cNvSpPr>
            <a:spLocks noGrp="1"/>
          </p:cNvSpPr>
          <p:nvPr>
            <p:ph type="subTitle"/>
          </p:nvPr>
        </p:nvSpPr>
        <p:spPr>
          <a:xfrm>
            <a:off x="1371600" y="4647960"/>
            <a:ext cx="6400800" cy="609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9900"/>
                </a:solidFill>
                <a:latin typeface="Arial"/>
              </a:rPr>
              <a:t>Cours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94E0D7B-0985-4E44-89D5-79A1AC3A2D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Thomas Hobbes</a:t>
            </a:r>
            <a:br>
              <a:rPr sz="3200"/>
            </a:br>
            <a:r>
              <a:rPr b="1" lang="fr-CA" sz="3200" spc="-1" strike="noStrike">
                <a:solidFill>
                  <a:srgbClr val="ff9900"/>
                </a:solidFill>
                <a:latin typeface="Arial"/>
              </a:rPr>
              <a:t>(1588-1679)</a:t>
            </a:r>
            <a:endParaRPr b="1" lang="en-US" sz="3200" spc="-1" strike="noStrike">
              <a:solidFill>
                <a:srgbClr val="ff9900"/>
              </a:solidFill>
              <a:latin typeface="Arial"/>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marqué du péché origine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faut le dresser par des pratiques éducatives autoritair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seigner une soumission absolue à l’autorité parent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6F6F4A1-4316-4AEF-9D56-991F75562D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18ième siècle:  l’époque des Lumières</a:t>
            </a:r>
            <a:endParaRPr b="1" lang="en-US" sz="3200" spc="-1" strike="noStrike">
              <a:solidFill>
                <a:srgbClr val="ff9900"/>
              </a:solidFill>
              <a:latin typeface="Arial"/>
            </a:endParaRPr>
          </a:p>
        </p:txBody>
      </p:sp>
      <p:sp>
        <p:nvSpPr>
          <p:cNvPr id="75"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Naissance d’une nouvelle philosophie de l’enf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térêt (surtout politique) croissant pour le bien-être de l’enf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082A1B-CF8D-4E8F-A965-651CC89BDA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John Locke</a:t>
            </a:r>
            <a:br>
              <a:rPr sz="3200"/>
            </a:br>
            <a:r>
              <a:rPr b="1" lang="fr-CA" sz="3200" spc="-1" strike="noStrike">
                <a:solidFill>
                  <a:srgbClr val="ff9900"/>
                </a:solidFill>
                <a:latin typeface="Arial"/>
              </a:rPr>
              <a:t>(1632-1704)</a:t>
            </a:r>
            <a:endParaRPr b="1" lang="en-US" sz="3200" spc="-1" strike="noStrike">
              <a:solidFill>
                <a:srgbClr val="ff9900"/>
              </a:solidFill>
              <a:latin typeface="Arial"/>
            </a:endParaRPr>
          </a:p>
        </p:txBody>
      </p:sp>
      <p:sp>
        <p:nvSpPr>
          <p:cNvPr id="7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e tabulas ras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influence du milieu viendra déterminer ce qu’il va deveni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portance des punitions et récompenses dans l’éduc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23CBD1E-D1A5-43CE-9A8F-90C70A7139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Jean-Jacques Rousseau</a:t>
            </a:r>
            <a:br>
              <a:rPr sz="3200"/>
            </a:br>
            <a:r>
              <a:rPr b="1" lang="fr-CA" sz="3200" spc="-1" strike="noStrike">
                <a:solidFill>
                  <a:srgbClr val="ff9900"/>
                </a:solidFill>
                <a:latin typeface="Arial"/>
              </a:rPr>
              <a:t>(1712-1778)</a:t>
            </a:r>
            <a:endParaRPr b="1" lang="en-US" sz="3200" spc="-1" strike="noStrike">
              <a:solidFill>
                <a:srgbClr val="ff99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naît pur, il a une prédisposition naturelle à un développement sain et ordonné – la société peut le corromp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Développe une conception permissive de l’éduc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8DC9BD3-22C7-4953-96DF-ED3C06DE9C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nception de Rousseau</a:t>
            </a:r>
            <a:endParaRPr b="1" lang="en-US" sz="3200" spc="-1" strike="noStrike">
              <a:solidFill>
                <a:srgbClr val="ff99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 agent acti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âche des adultes n’est pas  d’enseigner aux enfants, mais d’offrir des possibilités d’explor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0825D7F-90CB-4EE5-9F9A-63A521D50E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nception de Rousseau</a:t>
            </a:r>
            <a:endParaRPr b="1" lang="en-US" sz="3200" spc="-1" strike="noStrike">
              <a:solidFill>
                <a:srgbClr val="ff99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Développement se fait selon un plan prévu à l’avance, avec des étap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On doit tenir compte des stades de développement de l’enfant dans son éduc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D61BFC1-81FB-4F04-BBB6-44BFB8F3BD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p:cNvSpPr/>
          <p:nvPr/>
        </p:nvSpPr>
        <p:spPr>
          <a:xfrm>
            <a:off x="1061640" y="485640"/>
            <a:ext cx="728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Times New Roman"/>
              </a:rPr>
              <a:t>Stades de développement selon Rousseau</a:t>
            </a:r>
            <a:endParaRPr b="0" lang="en-US" sz="3200" spc="-1" strike="noStrike">
              <a:solidFill>
                <a:srgbClr val="000000"/>
              </a:solidFill>
              <a:latin typeface="Times New Roman"/>
            </a:endParaRPr>
          </a:p>
        </p:txBody>
      </p:sp>
      <p:sp>
        <p:nvSpPr>
          <p:cNvPr id="85" name=""/>
          <p:cNvSpPr/>
          <p:nvPr/>
        </p:nvSpPr>
        <p:spPr>
          <a:xfrm>
            <a:off x="1142280" y="1447920"/>
            <a:ext cx="7707600" cy="478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Petite enfance ou stade Animal (0-4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timuler l ’exploration sensori-motr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Enfance ou stade sauvage (5-12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Munir l ’enfant de défense contre le v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Jeunesse (12-15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Apprendre l ’autonomie et la découverte acti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Adolescence (15-20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évelopper le sens moral et la maturité émotionnelle</a:t>
            </a:r>
            <a:endParaRPr b="0" lang="en-US" sz="2800" spc="-1" strike="noStrike">
              <a:solidFill>
                <a:srgbClr val="000000"/>
              </a:solidFill>
              <a:latin typeface="Times New Roman"/>
            </a:endParaRPr>
          </a:p>
        </p:txBody>
      </p:sp>
      <p:sp>
        <p:nvSpPr>
          <p:cNvPr id="86" name=""/>
          <p:cNvSpPr/>
          <p:nvPr/>
        </p:nvSpPr>
        <p:spPr>
          <a:xfrm rot="16134000">
            <a:off x="-460440" y="2898720"/>
            <a:ext cx="199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ré-social</a:t>
            </a:r>
            <a:endParaRPr b="0" lang="en-US" sz="2400" spc="-1" strike="noStrike">
              <a:solidFill>
                <a:srgbClr val="000000"/>
              </a:solidFill>
              <a:latin typeface="Times New Roman"/>
            </a:endParaRPr>
          </a:p>
        </p:txBody>
      </p:sp>
      <p:sp>
        <p:nvSpPr>
          <p:cNvPr id="87" name=""/>
          <p:cNvSpPr/>
          <p:nvPr/>
        </p:nvSpPr>
        <p:spPr>
          <a:xfrm rot="16204200">
            <a:off x="54000" y="543204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Soci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B93460-3C3C-4F58-957E-D6A3D78CC2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La naissance de la psychologie</a:t>
            </a:r>
            <a:endParaRPr b="1" lang="en-US" sz="3600" spc="-1" strike="noStrike">
              <a:solidFill>
                <a:srgbClr val="ff9900"/>
              </a:solidFill>
              <a:latin typeface="Arial"/>
            </a:endParaRPr>
          </a:p>
        </p:txBody>
      </p:sp>
      <p:sp>
        <p:nvSpPr>
          <p:cNvPr id="89" name="PlaceHolder 2"/>
          <p:cNvSpPr>
            <a:spLocks noGrp="1"/>
          </p:cNvSpPr>
          <p:nvPr>
            <p:ph type="subTitle"/>
          </p:nvPr>
        </p:nvSpPr>
        <p:spPr>
          <a:xfrm>
            <a:off x="144792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Fin du 19ième siècl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3EEE27F-298B-41EA-9782-0747493B9D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réation des premiers laboratoires de psychologie expérimentale</a:t>
            </a:r>
            <a:endParaRPr b="1" lang="en-US" sz="3200" spc="-1" strike="noStrike">
              <a:solidFill>
                <a:srgbClr val="ff9900"/>
              </a:solidFill>
              <a:latin typeface="Arial"/>
            </a:endParaRPr>
          </a:p>
        </p:txBody>
      </p:sp>
      <p:sp>
        <p:nvSpPr>
          <p:cNvPr id="91"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Wilhelm Wundt (1832-1920) fonde le premier laboratoire de psychologie en Allemag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nley Hall (1883) dirigera le premier laboratoire d’études sur les enfants aux Etats-Un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7EE0838-BF97-4ACC-BCC5-7AFD146A2A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Charles Darwin, </a:t>
            </a:r>
            <a:br>
              <a:rPr sz="3600"/>
            </a:br>
            <a:r>
              <a:rPr b="1" lang="fr-CA" sz="3600" spc="-1" strike="noStrike">
                <a:solidFill>
                  <a:srgbClr val="ff9900"/>
                </a:solidFill>
                <a:latin typeface="Arial"/>
              </a:rPr>
              <a:t>«l’homme le plus dangereux d’Angleterre»</a:t>
            </a:r>
            <a:endParaRPr b="1" lang="en-US" sz="3600" spc="-1" strike="noStrike">
              <a:solidFill>
                <a:srgbClr val="ff9900"/>
              </a:solidFill>
              <a:latin typeface="Arial"/>
            </a:endParaRPr>
          </a:p>
        </p:txBody>
      </p:sp>
      <p:sp>
        <p:nvSpPr>
          <p:cNvPr id="93" name="PlaceHolder 2"/>
          <p:cNvSpPr>
            <a:spLocks noGrp="1"/>
          </p:cNvSpPr>
          <p:nvPr>
            <p:ph type="subTitle"/>
          </p:nvPr>
        </p:nvSpPr>
        <p:spPr>
          <a:xfrm>
            <a:off x="1447920" y="4038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1809-188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DB4D7B9-7DA6-48F0-BFBD-2331079F89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ans» et son histoire…</a:t>
            </a:r>
            <a:endParaRPr b="1" lang="en-US" sz="3200" spc="-1" strike="noStrike">
              <a:solidFill>
                <a:srgbClr val="ff9900"/>
              </a:solidFill>
              <a:latin typeface="Arial"/>
            </a:endParaRPr>
          </a:p>
        </p:txBody>
      </p:sp>
      <p:sp>
        <p:nvSpPr>
          <p:cNvPr id="5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Histoire de l’enfance est récen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fans:  Qui ne parle pas et qu’on ne consulte pa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etit adulte à qui il manque des capacité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9E2E0FD-7127-4B95-80FF-FDD3D44536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Darwin soutiendra deux thèses principales:</a:t>
            </a:r>
            <a:endParaRPr b="1" lang="en-US" sz="3200" spc="-1" strike="noStrike">
              <a:solidFill>
                <a:srgbClr val="ff9900"/>
              </a:solidFill>
              <a:latin typeface="Arial"/>
            </a:endParaRPr>
          </a:p>
        </p:txBody>
      </p:sp>
      <p:sp>
        <p:nvSpPr>
          <p:cNvPr id="95"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utes les plantes ou les animaux qui existent aujourd’hui descendent de formes plus ancien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évolution est due à une sélection naturel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4997BC4-1030-4F25-B64B-B6D15EB057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914400" y="2286000"/>
            <a:ext cx="784872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a montagne qui accouche d’une souri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échelle cosmique de l’homm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e Big Bang</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0DC504B-D86F-4001-B384-F8BA3ECF4B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97" name=""/>
          <p:cNvGraphicFramePr/>
          <p:nvPr/>
        </p:nvGraphicFramePr>
        <p:xfrm>
          <a:off x="905040" y="1814400"/>
          <a:ext cx="7333920" cy="3227400"/>
        </p:xfrm>
        <a:graphic>
          <a:graphicData uri="http://schemas.openxmlformats.org/presentationml/2006/ole">
            <p:oleObj r:id="rId1" spid="">
              <p:embed/>
              <p:pic>
                <p:nvPicPr>
                  <p:cNvPr id="98" name="" descr=""/>
                  <p:cNvPicPr/>
                  <p:nvPr/>
                </p:nvPicPr>
                <p:blipFill>
                  <a:blip r:embed="rId2"/>
                  <a:stretch/>
                </p:blipFill>
                <p:spPr>
                  <a:xfrm>
                    <a:off x="905040" y="1814400"/>
                    <a:ext cx="7333920" cy="3227400"/>
                  </a:xfrm>
                  <a:prstGeom prst="rect">
                    <a:avLst/>
                  </a:prstGeom>
                  <a:ln w="0">
                    <a:noFill/>
                  </a:ln>
                </p:spPr>
              </p:pic>
            </p:oleObj>
          </a:graphicData>
        </a:graphic>
      </p:graphicFrame>
      <p:sp>
        <p:nvSpPr>
          <p:cNvPr id="2" name="PlaceHolder 1"/>
          <p:cNvSpPr>
            <a:spLocks noGrp="1"/>
          </p:cNvSpPr>
          <p:nvPr>
            <p:ph type="sldNum" idx="3"/>
          </p:nvPr>
        </p:nvSpPr>
        <p:spPr/>
        <p:txBody>
          <a:bodyPr/>
          <a:p>
            <a:fld id="{73ED9482-4F92-4075-A190-6008B76DF3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réactions aux affirmations</a:t>
            </a:r>
            <a:br>
              <a:rPr sz="3200"/>
            </a:br>
            <a:r>
              <a:rPr b="1" lang="fr-CA" sz="3200" spc="-1" strike="noStrike">
                <a:solidFill>
                  <a:srgbClr val="ff9900"/>
                </a:solidFill>
                <a:latin typeface="Arial"/>
              </a:rPr>
              <a:t>de Darwin…</a:t>
            </a:r>
            <a:endParaRPr b="1" lang="en-US" sz="3200" spc="-1" strike="noStrike">
              <a:solidFill>
                <a:srgbClr val="ff9900"/>
              </a:solidFill>
              <a:latin typeface="Arial"/>
            </a:endParaRPr>
          </a:p>
        </p:txBody>
      </p:sp>
      <p:sp>
        <p:nvSpPr>
          <p:cNvPr id="100" name="PlaceHolder 2"/>
          <p:cNvSpPr>
            <a:spLocks noGrp="1"/>
          </p:cNvSpPr>
          <p:nvPr>
            <p:ph/>
          </p:nvPr>
        </p:nvSpPr>
        <p:spPr>
          <a:xfrm>
            <a:off x="533160" y="1676160"/>
            <a:ext cx="784836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Foudre de l’égli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spérons que tout ça n’est pas vrai, mais si cela devait être vrai, espérons que cela puisse rester entre no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est une découverte humiliante, et moins on en parle, mieux cela vaudr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733E334-D05E-44AE-871E-3FBEC9F0D9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luences de Darwin</a:t>
            </a:r>
            <a:endParaRPr b="1" lang="en-US" sz="3200" spc="-1" strike="noStrike">
              <a:solidFill>
                <a:srgbClr val="ff9900"/>
              </a:solidFill>
              <a:latin typeface="Arial"/>
            </a:endParaRPr>
          </a:p>
        </p:txBody>
      </p:sp>
      <p:sp>
        <p:nvSpPr>
          <p:cNvPr id="102" name="PlaceHolder 2"/>
          <p:cNvSpPr>
            <a:spLocks noGrp="1"/>
          </p:cNvSpPr>
          <p:nvPr>
            <p:ph/>
          </p:nvPr>
        </p:nvSpPr>
        <p:spPr>
          <a:xfrm>
            <a:off x="533160" y="1218960"/>
            <a:ext cx="78483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ne peut comprendre un individu qu’en connaissant comment il change;</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Intérêt pour le changement.</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homme n’est pas une espèce séparée des autres espèces;</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Recherches comparative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y a une certaine continuité entre l’enfance et l’adulte;</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Études sur les enfan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80A881D-35D9-42FF-8B7B-11EA06EF8F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luences de Darwin</a:t>
            </a:r>
            <a:endParaRPr b="1" lang="en-US" sz="3200" spc="-1" strike="noStrike">
              <a:solidFill>
                <a:srgbClr val="ff9900"/>
              </a:solidFill>
              <a:latin typeface="Arial"/>
            </a:endParaRPr>
          </a:p>
        </p:txBody>
      </p:sp>
      <p:sp>
        <p:nvSpPr>
          <p:cNvPr id="104" name="PlaceHolder 2"/>
          <p:cNvSpPr>
            <a:spLocks noGrp="1"/>
          </p:cNvSpPr>
          <p:nvPr>
            <p:ph/>
          </p:nvPr>
        </p:nvSpPr>
        <p:spPr>
          <a:xfrm>
            <a:off x="609480" y="1523520"/>
            <a:ext cx="7848720" cy="4038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s comportements se maintiennent parce qu’ils permettent de survivre;</a:t>
            </a:r>
            <a:endParaRPr b="0" lang="en-US" sz="2800" spc="-1" strike="noStrike">
              <a:solidFill>
                <a:srgbClr val="ffffff"/>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Approche éthologique en psychologi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s individus les mieux adaptés survivent et transmettent leurs traits à leurs descendants.</a:t>
            </a:r>
            <a:endParaRPr b="0" lang="en-US" sz="2800" spc="-1" strike="noStrike">
              <a:solidFill>
                <a:srgbClr val="ffffff"/>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Intérêt pour les différences individuell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3F7677A-6505-4B63-A803-5D682C73A1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Les théories psychanalytiques</a:t>
            </a:r>
            <a:endParaRPr b="1" lang="en-US" sz="3600" spc="-1" strike="noStrike">
              <a:solidFill>
                <a:srgbClr val="ff9900"/>
              </a:solidFill>
              <a:latin typeface="Arial"/>
            </a:endParaRPr>
          </a:p>
        </p:txBody>
      </p:sp>
      <p:sp>
        <p:nvSpPr>
          <p:cNvPr id="106" name="PlaceHolder 2"/>
          <p:cNvSpPr>
            <a:spLocks noGrp="1"/>
          </p:cNvSpPr>
          <p:nvPr>
            <p:ph type="subTitle"/>
          </p:nvPr>
        </p:nvSpPr>
        <p:spPr>
          <a:xfrm>
            <a:off x="1447920" y="3048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S. Freud (1856-1939)</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16F2B89-D457-4743-8C18-C0C3ECBBED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trois composantes de</a:t>
            </a:r>
            <a:br>
              <a:rPr sz="3200"/>
            </a:br>
            <a:r>
              <a:rPr b="1" lang="fr-CA" sz="3200" spc="-1" strike="noStrike">
                <a:solidFill>
                  <a:srgbClr val="ff9900"/>
                </a:solidFill>
                <a:latin typeface="Arial"/>
              </a:rPr>
              <a:t> 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08"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 </a:t>
            </a:r>
            <a:r>
              <a:rPr b="0" lang="fr-CA" sz="2800" spc="-1" strike="noStrike">
                <a:solidFill>
                  <a:srgbClr val="ffffff"/>
                </a:solidFill>
                <a:latin typeface="Arial"/>
              </a:rPr>
              <a:t>Composante dynamique:  pulsion de vie et pulsion de mo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mposante structurale: le Ça, le Moi et le Surmo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mposante développementale:  Les stades du développemen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031ACE2-A7C3-4C5D-BC6E-CFAB8F85C4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pulsions</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1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 </a:t>
            </a:r>
            <a:r>
              <a:rPr b="0" lang="fr-CA" sz="2800" spc="-1" strike="noStrike">
                <a:solidFill>
                  <a:srgbClr val="ffffff"/>
                </a:solidFill>
                <a:latin typeface="Arial"/>
              </a:rPr>
              <a:t>Pulsion de vie (Éros): réfère à l’amour de soi, à la préservation de soi et de l’espèce (reproduc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ulsion de mort (Thanathos): instinct qui nous pousse à revenir à l’état antérieu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F0E3DBF-D742-4D22-9CF4-C142E0D330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ynamiqu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12" name=""/>
          <p:cNvSpPr/>
          <p:nvPr/>
        </p:nvSpPr>
        <p:spPr>
          <a:xfrm>
            <a:off x="179280" y="2209680"/>
            <a:ext cx="89650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Pulsion    Accumulation    Tension    Satisfaction    Rédu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fffff"/>
                </a:solidFill>
                <a:latin typeface="Times New Roman"/>
              </a:rPr>
              <a:t>d’énergie                                                de tens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Exe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ésir        Accumulation    Tension        Acte          Orgas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exuel                                                     sexu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
          <p:cNvSpPr/>
          <p:nvPr/>
        </p:nvSpPr>
        <p:spPr>
          <a:xfrm>
            <a:off x="114300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2408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8168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90720" y="4648320"/>
            <a:ext cx="9903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200400" y="464832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105520" y="4724280"/>
            <a:ext cx="9903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47242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BE1881-2919-4A75-9775-EFBAE148F6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Enfant-maillon</a:t>
            </a:r>
            <a:endParaRPr b="1" lang="en-US" sz="3200" spc="-1" strike="noStrike">
              <a:solidFill>
                <a:srgbClr val="ff9900"/>
              </a:solidFill>
              <a:latin typeface="Arial"/>
            </a:endParaRPr>
          </a:p>
        </p:txBody>
      </p:sp>
      <p:sp>
        <p:nvSpPr>
          <p:cNvPr id="5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 don de la terre, grande nourriciè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individu  n’est qu’un maillon dans la vaste chaîne des humains, qui assure la continuité de l’espè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destiné à remplacer un ancêtr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25F8DB2-6576-4A98-B1E4-02803AC9B3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2"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ÇA:  </a:t>
            </a:r>
            <a:r>
              <a:rPr b="1" lang="fr-CA" sz="2800" spc="-1" strike="noStrike">
                <a:solidFill>
                  <a:srgbClr val="ff9900"/>
                </a:solidFill>
                <a:latin typeface="Arial"/>
              </a:rPr>
              <a:t>réfère au bagage biologique et aux pulsion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ource de pulsions inconscientes (besoins, motivation, dési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uidé par le principe de plaisir:  gratification immédiat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résent dès la naiss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7A9AF72-312B-4E20-94CC-36BBA4D2D3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4" name="PlaceHolder 2"/>
          <p:cNvSpPr>
            <a:spLocks noGrp="1"/>
          </p:cNvSpPr>
          <p:nvPr>
            <p:ph/>
          </p:nvPr>
        </p:nvSpPr>
        <p:spPr>
          <a:xfrm>
            <a:off x="609480" y="1981080"/>
            <a:ext cx="7848720" cy="4267440"/>
          </a:xfrm>
          <a:prstGeom prst="rect">
            <a:avLst/>
          </a:prstGeom>
          <a:noFill/>
          <a:ln w="0">
            <a:noFill/>
          </a:ln>
        </p:spPr>
        <p:txBody>
          <a:bodyPr lIns="90000" rIns="90000" tIns="46800" bIns="46800"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MOI:  réfère à la raison, au sens commu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ont entre le </a:t>
            </a:r>
            <a:r>
              <a:rPr b="1" lang="fr-CA" sz="2800" spc="-1" strike="noStrike">
                <a:solidFill>
                  <a:srgbClr val="ff9900"/>
                </a:solidFill>
                <a:latin typeface="Arial"/>
              </a:rPr>
              <a:t>Ça</a:t>
            </a:r>
            <a:r>
              <a:rPr b="0" lang="fr-CA" sz="2800" spc="-1" strike="noStrike">
                <a:solidFill>
                  <a:srgbClr val="ffffff"/>
                </a:solidFill>
                <a:latin typeface="Arial"/>
              </a:rPr>
              <a:t> et le </a:t>
            </a:r>
            <a:r>
              <a:rPr b="1" lang="fr-CA" sz="2800" spc="-1" strike="noStrike">
                <a:solidFill>
                  <a:srgbClr val="ff9900"/>
                </a:solidFill>
                <a:latin typeface="Arial"/>
              </a:rPr>
              <a:t>réalité</a:t>
            </a:r>
            <a:r>
              <a:rPr b="0" lang="fr-CA"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uidé par le principe de réalité:  gratification en tenant compte de la réalité physique ou socia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e développe peu après la naiss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7AE111E-C62B-4468-AA13-B4E976F154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SURMOI:  </a:t>
            </a:r>
            <a:r>
              <a:rPr b="1" lang="fr-CA" sz="2800" spc="-1" strike="noStrike">
                <a:solidFill>
                  <a:srgbClr val="ff9900"/>
                </a:solidFill>
                <a:latin typeface="Arial"/>
              </a:rPr>
              <a:t>réfère plus ou moins à la conscience mor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tégration des principes moraux de la société</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e développe vers 4-5 ans dans le cadre du complexe d’Œdipe et d’Élect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1506B1B-E2D6-42F1-A4BA-8A916CF223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2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oral (0 – 12/18 moi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laisir est lié à la bouche (téter, mordre, et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Zone érogène ou de plaisir sensuel = bouch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Émergence du Moi durant ce stad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anal (12/18 mois – 3 a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laisir sensuel est relié à la rétention et à l’expulsion des sel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Aspect important = apprentissage de la propreté</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onsolidation du Moi</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18B9240-2AF8-487D-9742-103DB3CDF2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3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phallique (3 ans  - 5/6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Apparition du complexe d’Œdipe et d’Élect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Zone de plaisir sensuel = organes génitau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Formation du Surmoi (conscien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ériode de latence (6/7 ans – 11/12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ause dans le développement psychosexu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Énergie est canalisée vers la construction des liens d’amitié</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87995E6-39F7-4AD1-A724-FE6D0D10BD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32"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génital (12 ans  - 18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hangement hormonaux entraînent la sexualité adul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Réactivation de la zone génitale comme lieu de plaisi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Réveil des désirs sexuels à l’extérieur de la famil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Stade où se développe l’amour tourné vers autrui</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23887DD-777C-4925-8E80-AB04ACBDF3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POSI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pact sur notre perception des enfants et des adul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comprend mieux certains aspects du fonctionnement émotif;</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8CB1480-0F5D-4947-8004-6E12228714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6" name="PlaceHolder 2"/>
          <p:cNvSpPr>
            <a:spLocks noGrp="1"/>
          </p:cNvSpPr>
          <p:nvPr>
            <p:ph/>
          </p:nvPr>
        </p:nvSpPr>
        <p:spPr>
          <a:xfrm>
            <a:off x="609120" y="1676520"/>
            <a:ext cx="8153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NÉGA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rop marquée par son époque et classe socia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éorie du développement normal à partir d’adultes perturbé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rop limitatif (régler conflit psychosexuel pour être norma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C070A95-2303-4A21-B9A8-32778E70C1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8" name="PlaceHolder 2"/>
          <p:cNvSpPr>
            <a:spLocks noGrp="1"/>
          </p:cNvSpPr>
          <p:nvPr>
            <p:ph/>
          </p:nvPr>
        </p:nvSpPr>
        <p:spPr>
          <a:xfrm>
            <a:off x="609120" y="1676160"/>
            <a:ext cx="8153640" cy="419076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NÉGA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ncepts trop généraux pour être utiles en recherch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éorie auto-explicati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as de développement à l’âge adul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0189684-4B49-4158-9417-63943B47FCDB}"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À cette époque… deux visions de l’éducation</a:t>
            </a:r>
            <a:endParaRPr b="1" lang="en-US" sz="3200" spc="-1" strike="noStrike">
              <a:solidFill>
                <a:srgbClr val="ff9900"/>
              </a:solidFill>
              <a:latin typeface="Arial"/>
            </a:endParaRPr>
          </a:p>
        </p:txBody>
      </p:sp>
      <p:sp>
        <p:nvSpPr>
          <p:cNvPr id="55"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recs = vision plutôt humaniste – enfant doit recevoir de l’affection et une éducation soup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omains = enfant est turbulent, impulsif et ignorant – requiert une discipline ferm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38CEAAB-ECA6-48B2-9FA6-B223AAA3D2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
          <p:cNvSpPr/>
          <p:nvPr/>
        </p:nvSpPr>
        <p:spPr>
          <a:xfrm>
            <a:off x="1066680" y="838080"/>
            <a:ext cx="723924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1" lang="fr-CA" sz="3200" spc="-1" strike="noStrike">
                <a:solidFill>
                  <a:srgbClr val="ff9900"/>
                </a:solidFill>
                <a:latin typeface="Times New Roman"/>
              </a:rPr>
              <a:t>Avant l’ère chrétien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Enfant-maill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Grecs              Romai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Démocrate         Discipli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Affection           Punition corporel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7" name=""/>
          <p:cNvSpPr/>
          <p:nvPr/>
        </p:nvSpPr>
        <p:spPr>
          <a:xfrm>
            <a:off x="5257800" y="2438280"/>
            <a:ext cx="1522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3352320" y="243828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200400" y="3886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6386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CE37B3B-4B44-4B7A-B8E4-2662B0D9AA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
          <p:cNvSpPr/>
          <p:nvPr/>
        </p:nvSpPr>
        <p:spPr>
          <a:xfrm>
            <a:off x="2280600" y="942840"/>
            <a:ext cx="4745160" cy="496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1" lang="fr-CA" sz="3200" spc="-1" strike="noStrike">
                <a:solidFill>
                  <a:srgbClr val="ff9900"/>
                </a:solidFill>
                <a:latin typeface="Times New Roman"/>
              </a:rPr>
              <a:t>Début du christianis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Enfant don de Dieu</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erssimiste       Optimist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Enfant-péché   Enfant-Jésu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5715000" y="25146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276720" y="25146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15000" y="40384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52680" y="4114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3B407F-B140-43F2-9EE7-2484B9F0DB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nfant don de Dieu</a:t>
            </a:r>
            <a:endParaRPr b="1" lang="en-US" sz="3200" spc="-1" strike="noStrike">
              <a:solidFill>
                <a:srgbClr val="ff9900"/>
              </a:solidFill>
              <a:latin typeface="Arial"/>
            </a:endParaRPr>
          </a:p>
        </p:txBody>
      </p:sp>
      <p:sp>
        <p:nvSpPr>
          <p:cNvPr id="67"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L’enfant-péché</a:t>
            </a:r>
            <a:r>
              <a:rPr b="0" lang="fr-CA" sz="2800" spc="-1" strike="noStrike">
                <a:solidFill>
                  <a:srgbClr val="ffffff"/>
                </a:solidFill>
                <a:latin typeface="Arial"/>
              </a:rPr>
              <a:t> (pessimiste):  enfant n’est qu’une ébauche imparfaite, marqué par le péché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nfant est corrompu et inspire la méfia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FDAEC21-C63A-4C36-BF7F-9C11EF8085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nfant don de Dieu</a:t>
            </a:r>
            <a:endParaRPr b="1" lang="en-US" sz="3200" spc="-1" strike="noStrike">
              <a:solidFill>
                <a:srgbClr val="ff9900"/>
              </a:solidFill>
              <a:latin typeface="Arial"/>
            </a:endParaRPr>
          </a:p>
        </p:txBody>
      </p:sp>
      <p:sp>
        <p:nvSpPr>
          <p:cNvPr id="69"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L’enfant-Jésus</a:t>
            </a:r>
            <a:r>
              <a:rPr b="0" lang="fr-CA" sz="2800" spc="-1" strike="noStrike">
                <a:solidFill>
                  <a:srgbClr val="ffffff"/>
                </a:solidFill>
                <a:latin typeface="Arial"/>
              </a:rPr>
              <a:t> (optimiste):  enfant est un être innocent, avec une bonté naturel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ut éducateur doit préserver cette innoce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encore vu comme un adulte miniatu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39477B6-7490-420D-A284-957DAA1E71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16ième siècle:  Renaissance</a:t>
            </a:r>
            <a:endParaRPr b="1" lang="en-US" sz="3200" spc="-1" strike="noStrike">
              <a:solidFill>
                <a:srgbClr val="ff9900"/>
              </a:solidFill>
              <a:latin typeface="Arial"/>
            </a:endParaRPr>
          </a:p>
        </p:txBody>
      </p:sp>
      <p:sp>
        <p:nvSpPr>
          <p:cNvPr id="71"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urant humaniste important:  enfant est à l’image de la perfection divi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recommande de grandes précautions dans l’éducation des enfa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faut orienter l’éducation vers la piété et la morale chrétienn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2824BD9-047A-4874-87F8-CF6E83C60C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3-12T21:10:20Z</dcterms:created>
  <dc:creator>U.Q.A.T</dc:creator>
  <dc:description/>
  <dc:language>en-US</dc:language>
  <cp:lastModifiedBy>Famille</cp:lastModifiedBy>
  <cp:lastPrinted>2000-11-20T20:15:44Z</cp:lastPrinted>
  <dcterms:modified xsi:type="dcterms:W3CDTF">2005-09-26T02:15:58Z</dcterms:modified>
  <cp:revision>363</cp:revision>
  <dc:subject/>
  <dc:title>PSE1201  Prévention et intervention précoce</dc:title>
</cp:coreProperties>
</file>