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808-8D6D-489D-BD0F-6F4A2CBC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F1A-DA78-434D-80EC-6518C54F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1D84-0A60-44FB-AC2C-2F0F1608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BD1-AB46-4718-9993-8538D3D6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905-ED57-432A-AC57-355AB556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FE1-F1F1-4D48-94D6-A70ACCD4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78F-B335-4208-9818-9F57642D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FCD-F3E7-4A94-BC9A-ECCBF100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DBBB-0898-424E-AF07-2D03DA73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12DA-69E0-42AB-9890-EF3BC6BB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4A6B-9F81-4FDA-A623-4B680BA3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984F-4CB0-4FA7-B1F6-B32BD90A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E437-DFB1-43DF-99A2-0AB7BA6B9F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3241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 chale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16360" y="260280"/>
            <a:ext cx="399600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 amis et de la nei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556080"/>
            <a:ext cx="3527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58920" y="3213000"/>
            <a:ext cx="360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’autob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3546000"/>
            <a:ext cx="3682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récré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3600360" cy="2703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4654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13:52Z</dcterms:created>
  <dc:creator>STI</dc:creator>
  <dc:description/>
  <dc:language>en-US</dc:language>
  <cp:lastModifiedBy>STI</cp:lastModifiedBy>
  <dcterms:modified xsi:type="dcterms:W3CDTF">2007-11-13T17:24:33Z</dcterms:modified>
  <cp:revision>3</cp:revision>
  <dc:subject/>
  <dc:title>Diapositive 1</dc:title>
</cp:coreProperties>
</file>