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ECBC-64F1-47A6-B492-F24C0EDB3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0F65-5A9F-46B3-AA4E-3AAF33B41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0B30-7B26-4DA7-BA94-521D31D32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65D0-B653-4F61-86DA-7868DB6DC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3D64-BF60-4FD0-BEFD-B6F8525A5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B7FE-B28B-452B-9E7B-4E7DA159D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67CD-FB59-40E6-BAD9-C87324DE9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380F-5E39-44EC-B179-643F08AE9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1313-3491-4E1F-94C6-5595C959F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4AE0-A9D5-407F-8B06-DF6407250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0F27-1013-4B35-BE79-4FAE8704C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7ACD-0144-4EE3-83B3-C691138E4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F5309-5545-43F0-81CD-3C0C33BF789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3241800" cy="29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 chale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716360" y="260280"/>
            <a:ext cx="3996000" cy="28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s amis et de la nei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076720" y="3213000"/>
            <a:ext cx="3059280" cy="3429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68360" y="3556080"/>
            <a:ext cx="3527280" cy="26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858920" y="3213000"/>
            <a:ext cx="360036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’autob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3546000"/>
            <a:ext cx="368280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 récré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859280" y="333360"/>
            <a:ext cx="3600360" cy="2703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4465440" cy="29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7:13:52Z</dcterms:created>
  <dc:creator>STI</dc:creator>
  <dc:description/>
  <dc:language>en-US</dc:language>
  <cp:lastModifiedBy>STI</cp:lastModifiedBy>
  <dcterms:modified xsi:type="dcterms:W3CDTF">2007-11-13T17:24:33Z</dcterms:modified>
  <cp:revision>3</cp:revision>
  <dc:subject/>
  <dc:title>Diapositive 1</dc:title>
</cp:coreProperties>
</file>