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560C-BDF6-4246-B91F-6766B8708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CED9-E73A-441C-9752-849443846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422B-00C7-4CF0-81EF-0E242D888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3D65-3ACE-4C86-9046-95A5DC781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5690-B0CC-41F5-AA94-35FBF6D8B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F835-F3CE-4318-8C01-59F8195AB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D11B-43E5-48AE-83F9-094965195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D49B-62FE-4F16-870B-5FC5412FF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1A7D-CA9F-46EC-B4EF-056708BC0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CB81-59B8-4F6C-84FE-1FF95669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2B19-D837-4AE4-B963-AD247FFA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1ED7-DE0E-4474-B3BE-D24D58C9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5AD9D-8411-41CD-9E8F-D958A2BCCCC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3241800" cy="29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 chale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716360" y="260280"/>
            <a:ext cx="3996000" cy="28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s amis et de la nei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076720" y="3213000"/>
            <a:ext cx="3059280" cy="3429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68360" y="3556080"/>
            <a:ext cx="3527280" cy="26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858920" y="3213000"/>
            <a:ext cx="36003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’autob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3546000"/>
            <a:ext cx="36828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 récré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859280" y="333360"/>
            <a:ext cx="3600360" cy="2703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4465440" cy="29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7:13:52Z</dcterms:created>
  <dc:creator>STI</dc:creator>
  <dc:description/>
  <dc:language>en-US</dc:language>
  <cp:lastModifiedBy>STI</cp:lastModifiedBy>
  <dcterms:modified xsi:type="dcterms:W3CDTF">2007-11-13T17:24:33Z</dcterms:modified>
  <cp:revision>3</cp:revision>
  <dc:subject/>
  <dc:title>Diapositive 1</dc:title>
</cp:coreProperties>
</file>