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932-7C49-4AC2-BB51-7853F840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085-B346-4AA2-98E0-1D8E6B8E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FEC-7342-4289-AD5B-E65DB056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DD5-FC96-4F8E-BCDA-0B1C8125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724-7724-4694-9F58-AF916D51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499-66B9-4E5A-B64A-E7E36EA2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4B6C-A875-4390-A337-BC665B4F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CBD-E820-4E82-88D6-3CB55B29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E3C-D37B-47C5-8A06-CBEF880A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B4F-9D81-4B20-94D8-9E5584FD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72E-4F18-45C9-B362-E5D898B9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7C9-51C5-45F6-AC28-AD96561D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8E96-BF52-4F41-92B5-E5878BF54D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chale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 amis et de la nei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58920" y="321300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’autob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3546000"/>
            <a:ext cx="3682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récré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600360" cy="270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4654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4:33Z</dcterms:modified>
  <cp:revision>3</cp:revision>
  <dc:subject/>
  <dc:title>Diapositive 1</dc:title>
</cp:coreProperties>
</file>