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F95-CF76-47E2-8B61-BCAF00C1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E92-BA33-4DDC-8A10-6BF814FA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20E-4A4C-401E-90FF-66DF8828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EC5-ED1F-4559-B939-03241B7B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0B9-B85B-4FB0-8BBA-EB8FB6FC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1BA-BBF6-4D97-AE96-37748C26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B36-9D87-416D-AB52-F9298133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39C-6B17-4FD6-8AAA-F8CDC5CD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B6D-F4BC-4B67-A123-807E9272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FFA0-BFF0-4C5D-B18A-B86E5A01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C31-E0F3-4437-8CD4-6CB2806F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B55-B98B-48A3-AB89-DDB66B8E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4436-0392-410C-BC51-978F74A613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2000" y="306864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997360"/>
            <a:ext cx="36831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456000" cy="259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105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1:24Z</dcterms:modified>
  <cp:revision>2</cp:revision>
  <dc:subject/>
  <dc:title>Diapositive 1</dc:title>
</cp:coreProperties>
</file>