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022-583A-4969-98FD-19EBBA42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FAE0-FC2C-470B-9A23-84E93314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2441-8EDC-4EF4-BF80-028E30EB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DF3-60E4-432C-A90F-CDAB63D9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B25C-5060-47AB-AE8A-C6283BBC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514-D66D-45EF-8AD5-A83F15EC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CA5-0657-4702-A366-12C5364B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070-AF95-492D-94C3-85675BB4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ECC-DCD5-470E-A452-D77F4097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951-D097-40EE-89ED-993F145A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53E3-C9D5-49E3-B66D-CFC26097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182-AA07-4438-82B0-6A62218A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BE48-9F50-4ACE-845F-349963A3E4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3241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16360" y="260280"/>
            <a:ext cx="3996000" cy="2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556080"/>
            <a:ext cx="35272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2000" y="3068640"/>
            <a:ext cx="360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997360"/>
            <a:ext cx="368316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03640" y="333360"/>
            <a:ext cx="3456000" cy="2595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105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13:52Z</dcterms:created>
  <dc:creator>STI</dc:creator>
  <dc:description/>
  <dc:language>en-US</dc:language>
  <cp:lastModifiedBy>STI</cp:lastModifiedBy>
  <dcterms:modified xsi:type="dcterms:W3CDTF">2007-11-13T17:21:24Z</dcterms:modified>
  <cp:revision>2</cp:revision>
  <dc:subject/>
  <dc:title>Diapositive 1</dc:title>
</cp:coreProperties>
</file>