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777C-9CAC-4DF2-BBFA-044C7040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EEEC-E8C2-49E0-ACD9-CD13043E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544D-CCE1-4C81-A520-BAF3D78C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C29-C3ED-4196-83A9-04AFBE14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17D-9730-4FDF-A228-07E0E305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59D5-13D9-4076-A02E-5718C167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E2AE-BA4B-4AF4-957C-B0BBFBBB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2F74-1F3C-4C58-8656-1BEFA5F8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329-AA47-4704-8760-61BC9DAD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460-ACD1-42D8-9C3F-E527A2D2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C68-B414-4190-BDEE-18B4E14B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44C-4766-4040-9EE6-45B3A0EB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0CFA-43F8-403A-9BD7-D49AB6CBE9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3241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360" y="260280"/>
            <a:ext cx="3996000" cy="2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556080"/>
            <a:ext cx="35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2000" y="3068640"/>
            <a:ext cx="36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997360"/>
            <a:ext cx="368316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3456000" cy="2595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105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13:52Z</dcterms:created>
  <dc:creator>STI</dc:creator>
  <dc:description/>
  <dc:language>en-US</dc:language>
  <cp:lastModifiedBy>STI</cp:lastModifiedBy>
  <dcterms:modified xsi:type="dcterms:W3CDTF">2007-11-13T17:21:24Z</dcterms:modified>
  <cp:revision>2</cp:revision>
  <dc:subject/>
  <dc:title>Diapositive 1</dc:title>
</cp:coreProperties>
</file>