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4D53-661D-42E1-B41A-89FEC2711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0DA7-4EFA-4788-A691-E67E8449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898B-31E0-4B49-BA52-36F440BF3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75CB-192B-4579-8B90-654300707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B33E-6FE5-4B23-9375-B09567822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0761-2590-41C1-BD83-A71FBBDA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3864-25AE-489A-9090-82221E33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9E97-4E3C-4BC6-8D65-EE060AA4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98BF-FC42-4692-967F-50703860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F1F7-94B5-47D4-886F-A019F938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E125-C822-4FB1-A4CE-827013E3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D009-CED2-4B92-8B11-3349FD63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0B17-D9F3-4F1E-8AD1-914389CF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D9A6-843D-46F1-8470-4223CA94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2F76-AE82-4E2B-A892-AB05DA94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C078-46E4-405D-A955-3225557D3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3F4D-2CEE-44EB-93CE-0D1DD075F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485C-2E02-4911-B0BE-07A545B4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BBE0-50C1-4BF3-9D47-9AE92FAF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DFDE-FEFD-4485-ACD8-DE6738D5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4144-124C-4976-8AC8-242909CA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D6E8-4022-4870-A87C-3B08D83D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990F-DF1A-4359-A571-6B1776AB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E863-08BC-48AA-BC6B-B2A6B31A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AFFD-13E2-4F6B-9833-351B4C498E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36A9-D44F-4D48-A1C8-4586933EE2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on nom est:  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 histoire s’intitule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Introduction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95280" y="2276640"/>
            <a:ext cx="8353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Développemen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4360" y="2420640"/>
            <a:ext cx="7632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Développement (suite)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8064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Développement (suite)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onclusion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68000" y="2276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5:06:15Z</dcterms:created>
  <dc:creator>Marie-Pier</dc:creator>
  <dc:description/>
  <dc:language>en-US</dc:language>
  <cp:lastModifiedBy>Marie-Pier</cp:lastModifiedBy>
  <dcterms:modified xsi:type="dcterms:W3CDTF">2007-11-19T16:28:06Z</dcterms:modified>
  <cp:revision>11</cp:revision>
  <dc:subject/>
  <dc:title>Le trio Parfait</dc:title>
</cp:coreProperties>
</file>