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CF09-5CEE-4DEB-93EB-2B4F4571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AF8-B127-4D96-A346-4753E7C9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819B-30E1-42AA-880F-DD4518A4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3B41-04BA-4CD4-989B-5E906A7F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8228-E1E8-4742-8E97-F05ED9D6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0603-2767-4E7B-B58B-0B939C17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986D-8C52-41E3-B2DC-8A7CE216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FE11-303C-440F-942D-8ADBB610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E456-0F2B-400C-A671-5AA39435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E01B-9145-44B7-BEF6-EDEF41B8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1082-777F-4BE6-A4ED-E087EEF2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804-EF5E-495A-BF15-C4CB1002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D398-0373-4855-A567-0FDA5899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C5D0-2406-4B64-A6B2-85FD7A93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6BB1-A9D3-4E18-8A55-CFD1AD09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2314-A667-4322-A00E-DC3FCBCB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6E2D-76A4-4E34-A394-A38A4F40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8FA3-0910-4564-9D44-2DF0DBF2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3B6-A32F-4024-830A-7F88836D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3FB-D2BB-48A4-92B3-A1D97388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21C-83F5-4C41-B8F6-2F83F501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A68-ECBF-456D-AFF7-D91167D8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9EEB-47C8-4270-8A24-C93DCA54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E51-2ACB-49BA-89A5-80AC7528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C7A5-032D-4754-8F94-0078FB525F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A566-4FF2-478C-A66C-47E1F025B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n nom est:  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 histoire s’intitule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Introduc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4360" y="2420640"/>
            <a:ext cx="7632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 (suite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806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 (suite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onclus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68000" y="2276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5:06:15Z</dcterms:created>
  <dc:creator>Marie-Pier</dc:creator>
  <dc:description/>
  <dc:language>en-US</dc:language>
  <cp:lastModifiedBy>Marie-Pier</cp:lastModifiedBy>
  <dcterms:modified xsi:type="dcterms:W3CDTF">2007-11-19T16:28:06Z</dcterms:modified>
  <cp:revision>11</cp:revision>
  <dc:subject/>
  <dc:title>Le trio Parfait</dc:title>
</cp:coreProperties>
</file>