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30D-05F1-4C9D-9F3C-678DF15C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925-0BF4-410E-B55A-934098D8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6D3-1EA7-4F47-8F11-BEFBAE39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30D-0BB6-4651-B3BA-DB7EEB1B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D59B-3152-41C8-BBC5-2692947C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BFE1-BB4D-4509-84CB-67AD70A1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0C71-1080-4270-BEB7-69356407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1FBC-9FEC-498C-8A8C-3BD4D39F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4324-4167-432A-9F14-28EDDD8D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737B-78AB-478B-890D-483AB043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3752-7977-46F7-B5D5-530E6EC5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BF2-DDCB-46DD-B7D1-F90685DD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6203-199E-42A2-81D9-0465FDBC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3D69-B410-4277-8382-FC55C870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4A64-506B-43B8-8B4D-0004BA6B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0C35-4980-4C83-9145-B5FB78D6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ACF2-C35E-4838-9767-73678363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10D-36AD-4B52-BC9C-22A29BCD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8DB-9DC5-4FD8-9C7B-5D357AAE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236-4AB4-4603-9920-571C0ECC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6E1A-7A5F-4ADA-AF81-29912EB0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D53-AB4A-465D-8C4D-9769A9B0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895-28A8-4E7C-A77E-224AE576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F6F2-D4D8-4031-939F-0C00A499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43A9-B0AB-478C-9153-E5C8C981C3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C6F5-C571-4098-BC16-C3572E0157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n nom est:  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 histoire s’intitul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Introduc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4360" y="2420640"/>
            <a:ext cx="7632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 (suite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806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 (suite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68000" y="2276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5:06:15Z</dcterms:created>
  <dc:creator>Marie-Pier</dc:creator>
  <dc:description/>
  <dc:language>en-US</dc:language>
  <cp:lastModifiedBy>Marie-Pier</cp:lastModifiedBy>
  <dcterms:modified xsi:type="dcterms:W3CDTF">2007-11-19T16:28:06Z</dcterms:modified>
  <cp:revision>11</cp:revision>
  <dc:subject/>
  <dc:title>Le trio Parfait</dc:title>
</cp:coreProperties>
</file>