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F6B-A505-4136-ACEE-7F09E3A6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FB3-371C-4E22-82B2-B5CD99D0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8C2-07F8-4C30-859C-2A2F9D88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2A2-9403-4CDB-81E5-7DBB20FE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71BA-2045-4FD5-A4C5-20244B9F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2025-FFFA-4ADB-892A-08C87D49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DEFD-0BB3-4EB3-8897-9D1E8996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10EA-2D09-41D3-B4D5-F584AB56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6E0D-4D4E-4F88-92D3-494807FE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202D-A913-45EE-A2E7-DF30A970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76BB-76D0-44B0-B4CD-5206B5B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72E-2217-4788-8EBE-708122BA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1645-CC58-449B-9E90-6D12B30E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576F-08CF-40DD-8BCB-079C42D9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2F6A-A88B-4352-97C7-406A7B2E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E521-03DE-4193-A364-52456201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E400-00D4-4A1D-836E-1D897383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B40-B938-494C-82EE-6B635581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BFF-20E1-4B72-A398-C48BABFF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5DB-9655-4052-B2E4-68D91D1C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92D-2CD2-440C-897E-131AD291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0EF-67CE-40CD-8BA2-3778560A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583-8A95-4BF3-93D3-CC51C4F1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286-625E-4293-857F-82C78DBB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53AB-751C-4747-911C-CB92D86F6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23A7-81AA-46CC-9F94-6DE785894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n nom est: 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 histoire s’intitul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ntroduc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806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68000" y="2276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06:15Z</dcterms:created>
  <dc:creator>Marie-Pier</dc:creator>
  <dc:description/>
  <dc:language>en-US</dc:language>
  <cp:lastModifiedBy>Marie-Pier</cp:lastModifiedBy>
  <dcterms:modified xsi:type="dcterms:W3CDTF">2007-11-19T16:28:06Z</dcterms:modified>
  <cp:revision>11</cp:revision>
  <dc:subject/>
  <dc:title>Le trio Parfait</dc:title>
</cp:coreProperties>
</file>