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BB2-3311-4DE9-BFE2-AC525032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929-3468-4409-8F4B-766A2DCC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92B-0B6A-4F81-8DB9-7336B038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295B-CD78-4AF1-9DF9-39FA8860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A57F-049C-434D-9341-832884D0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36F4-D5E2-47FC-BC14-308BF7EA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ABDC-E6AB-4905-853B-BC3F1FEA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3F4C-CBE1-487E-B33C-2E998A1A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976E-595B-4FDE-9FFE-8C870358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0E20-E9A9-4966-AC9C-C22DDA19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D46D-AE7E-400E-947B-DB65604B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963-6695-4A6F-B241-17FACC38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B151-097B-417A-BC24-C1DB751B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C05D-6AD8-4EC8-9409-11DB07F7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CAB1-3DC0-4E39-AE6E-86AD690B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88C9-C158-46A3-BF86-E853E121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F953-FEBD-408B-960D-13A16C5D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D57-204A-498D-B1C6-783B8360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7D3-7B13-41D2-989F-751D8AA4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5B7-7917-4894-84A2-B958C4BB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6EF-9101-4010-8888-981C3949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409-B690-4632-9AD8-9990581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773-D130-4177-9280-B3256124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D83-DA51-4F93-9635-8E45B832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46F7-6B5D-4766-AF03-4F881C2E3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52B9-94E8-4B90-86CF-ED47C8A5A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n nom est: 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 histoire s’intitul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Introduc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4360" y="2420640"/>
            <a:ext cx="7632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806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68000" y="2276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06:15Z</dcterms:created>
  <dc:creator>Marie-Pier</dc:creator>
  <dc:description/>
  <dc:language>en-US</dc:language>
  <cp:lastModifiedBy>Marie-Pier</cp:lastModifiedBy>
  <dcterms:modified xsi:type="dcterms:W3CDTF">2007-11-19T16:28:06Z</dcterms:modified>
  <cp:revision>11</cp:revision>
  <dc:subject/>
  <dc:title>Le trio Parfait</dc:title>
</cp:coreProperties>
</file>