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B05-BB24-461D-BE92-BDD90DD1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75A-7292-4805-B7F0-61D1DDED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DA0-CFC0-45BB-AB08-F6026258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311-CB49-48E2-A290-9F9A845E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A06-F215-4DD2-A3D7-B0289287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A1A-EAD3-4B0F-BE61-57BCDFDF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E11-086E-4013-9B03-02784BE1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D41-18F4-4B56-93C2-68ADAF29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DC7-7868-4BDD-ADD0-6E33F0C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C4E-6B86-4D51-B169-D41AE227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B87-EDA6-4ABA-B49B-400C4715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B1A-A4F3-49E4-AAB1-3DC2B5F9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6A55-A658-4386-856F-DDD8D3F2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non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73440" y="2957400"/>
            <a:ext cx="1795320" cy="18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178776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1830600" cy="14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1841400" cy="120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56360" y="1413000"/>
            <a:ext cx="229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193536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3573360"/>
            <a:ext cx="2411280" cy="191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1733400" cy="192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411280" y="2708280"/>
            <a:ext cx="24242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9:44Z</dcterms:created>
  <dc:creator>Marie-Pier</dc:creator>
  <dc:description/>
  <dc:language>en-US</dc:language>
  <cp:lastModifiedBy>Marie-Pier</cp:lastModifiedBy>
  <dcterms:modified xsi:type="dcterms:W3CDTF">2007-11-18T19:37:26Z</dcterms:modified>
  <cp:revision>2</cp:revision>
  <dc:subject/>
  <dc:title>Diapositive 1</dc:title>
</cp:coreProperties>
</file>