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C8B9-50A8-4774-8228-24FB3BA32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FDB8-A2E0-45B6-8EC2-E4E4EDD3F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9939-6B37-4908-AC81-7503E04C1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0A00-9579-4F91-AA16-B2FBAA2D0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CF03-6D97-4AD9-AA4F-F30B588FF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431C-87BC-4D20-B3C3-AFED29BC0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9621-E865-41CD-AA35-2D94D99F0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1209-0D35-4A46-AFA4-9AF748E5F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F043-BAFF-4DF0-9C72-DBF4999E3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BB0D-9CBD-4CDE-A48E-239A23CE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8F2F-F7FC-4EC0-B54E-04192710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0D69-B145-4D02-AD3D-6698B2C9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BE0AD-CDC1-4D2D-B95D-F7AA173A0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es non pertin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673440" y="2957400"/>
            <a:ext cx="1795320" cy="1811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227640" y="4076640"/>
            <a:ext cx="1787760" cy="1793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900000" y="4653000"/>
            <a:ext cx="1830600" cy="1474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684360" y="1844640"/>
            <a:ext cx="1841400" cy="1206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6156360" y="1413000"/>
            <a:ext cx="2292480" cy="22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es pertin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940360" y="1844640"/>
            <a:ext cx="1935360" cy="1427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156360" y="3573360"/>
            <a:ext cx="2411280" cy="1914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11280" y="1557360"/>
            <a:ext cx="1733400" cy="1922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826920" y="4076640"/>
            <a:ext cx="1295640" cy="1295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2411280" y="2708280"/>
            <a:ext cx="242424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16:59:44Z</dcterms:created>
  <dc:creator>Marie-Pier</dc:creator>
  <dc:description/>
  <dc:language>en-US</dc:language>
  <cp:lastModifiedBy>Marie-Pier</cp:lastModifiedBy>
  <dcterms:modified xsi:type="dcterms:W3CDTF">2007-11-18T19:37:26Z</dcterms:modified>
  <cp:revision>2</cp:revision>
  <dc:subject/>
  <dc:title>Diapositive 1</dc:title>
</cp:coreProperties>
</file>