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5F6-3D98-4740-806E-8C057495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553-18B4-46D3-AE4E-DDFB3D6B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4E0-FCC8-42E2-82D0-AA1B806D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5A9-86F2-4AED-BEFA-5E211B52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B2A-FD56-4CBD-B72A-E4C27F9E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B3E-913B-41F5-88B6-E8CF8E34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D48-84A3-4AEC-89CC-AEB2F39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2F1-B913-481F-9F44-3846023E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9D3-C241-4E93-8678-F850AC41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37E-A428-4EE6-A44A-3C03F8E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070-AC71-4724-A315-BB48108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D2D-CD86-495F-8275-81E8C34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34E-F03C-4E39-A2E7-88ABDE30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non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73440" y="295740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178776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18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184140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1413000"/>
            <a:ext cx="229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193536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357336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1733400" cy="192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411280" y="2708280"/>
            <a:ext cx="2424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9:44Z</dcterms:created>
  <dc:creator>Marie-Pier</dc:creator>
  <dc:description/>
  <dc:language>en-US</dc:language>
  <cp:lastModifiedBy>Marie-Pier</cp:lastModifiedBy>
  <dcterms:modified xsi:type="dcterms:W3CDTF">2007-11-18T19:37:26Z</dcterms:modified>
  <cp:revision>2</cp:revision>
  <dc:subject/>
  <dc:title>Diapositive 1</dc:title>
</cp:coreProperties>
</file>