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F64E-A4F4-4114-AB3A-25BB2E42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C266-2D51-464E-BB15-47F58F1E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AC94-CD34-4EFB-B23F-AF83BF07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C8B9-44C0-458B-985D-7CCB2CA9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438-497D-46C2-9BC2-B633D41C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F7F-DCB1-4FA4-A79D-74DB731A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827-0871-4ABB-AEBD-EE2DCFCF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9B9A-B273-4EF4-8359-B62EE42C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2F8-F6A0-4F5F-9677-CB95B4DF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570-55CE-4D20-B889-F7FC5D8F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B0AE-414A-49C7-9515-4BF86970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6306-4C70-4063-890A-06F133E2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4AA0-199D-443B-A695-8137D3FE5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s non perti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73440" y="2957400"/>
            <a:ext cx="1795320" cy="1811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4076640"/>
            <a:ext cx="1787760" cy="1793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00000" y="4653000"/>
            <a:ext cx="1830600" cy="147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84360" y="1844640"/>
            <a:ext cx="1841400" cy="120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156360" y="1413000"/>
            <a:ext cx="229248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s perti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1935360" cy="1427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56360" y="3573360"/>
            <a:ext cx="2411280" cy="1914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1733400" cy="1922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26920" y="407664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411280" y="2708280"/>
            <a:ext cx="242424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9:44Z</dcterms:created>
  <dc:creator>Marie-Pier</dc:creator>
  <dc:description/>
  <dc:language>en-US</dc:language>
  <cp:lastModifiedBy>Marie-Pier</cp:lastModifiedBy>
  <dcterms:modified xsi:type="dcterms:W3CDTF">2007-11-18T19:37:26Z</dcterms:modified>
  <cp:revision>2</cp:revision>
  <dc:subject/>
  <dc:title>Diapositive 1</dc:title>
</cp:coreProperties>
</file>