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B0B-A3F0-4A8F-A105-E18AC0AB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36D-75D6-485F-8213-624B8D27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602-E1F5-466F-AFA1-B1F5D728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0C2-E540-4811-83FF-6E837DAB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1D3-E244-4466-8EB3-33A48E61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F6C-5E82-4753-A9DC-77D04146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DF9-B734-4A2C-B495-D86F68C5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A78-DADA-4FD4-A43B-96EC56B3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5DC-3047-4AA9-972F-AE4BDFDF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4FA-DA1E-4BD7-8553-66C2A46C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2EA-76DC-4C6D-9CCB-2C6227C1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F69-3EFD-4439-8C88-AE803C92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219C-413F-4BBF-B175-C017A41E3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non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73440" y="2957400"/>
            <a:ext cx="1795320" cy="181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4076640"/>
            <a:ext cx="1787760" cy="179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4653000"/>
            <a:ext cx="1830600" cy="147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1841400" cy="120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156360" y="1413000"/>
            <a:ext cx="229248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193536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3573360"/>
            <a:ext cx="2411280" cy="191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1733400" cy="192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26920" y="4076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411280" y="2708280"/>
            <a:ext cx="24242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9:44Z</dcterms:created>
  <dc:creator>Marie-Pier</dc:creator>
  <dc:description/>
  <dc:language>en-US</dc:language>
  <cp:lastModifiedBy>Marie-Pier</cp:lastModifiedBy>
  <dcterms:modified xsi:type="dcterms:W3CDTF">2007-11-18T19:37:26Z</dcterms:modified>
  <cp:revision>2</cp:revision>
  <dc:subject/>
  <dc:title>Diapositive 1</dc:title>
</cp:coreProperties>
</file>