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C8B4-2A95-4A45-943D-D82433FF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9C0D-FA01-428E-9A7C-F3BBD9D7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50DC-FD0A-40FE-8713-40C6BE43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7548-D113-44DE-9642-B709F3C05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C35D-8A25-41DD-A87E-D69B8C8C9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ECFE-AC85-49D9-A4CC-C5D4F38C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5811-C0CC-47DD-8566-3D004131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E2BC-9946-4CD8-B519-7661E78F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C364-67F9-41CF-9EE0-629606C1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C322-12F2-4440-94C5-74E77DED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7DD4-EE5C-4DCA-8106-73C1F2E6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F1A5-575A-45A0-8AFD-0AFECD05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1C18-A930-4057-91BC-F287839B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8A76-F3F7-46D9-A95C-0A1E2C58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5563-F3EB-4CFE-8FC2-B29133B1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A6CF-26F2-42CE-8109-7F2BEF89F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E6A3-654B-4556-B6C1-0867D2F0D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C950-EAA2-4BD6-9A0C-724B67F3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D0B3-03A7-4A07-82F7-EBDDA20E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5F55-A9BA-4ED6-933F-E89BC457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8017-E9D6-4EE6-A0BA-CA0CCE11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8359-21B5-40B3-B4E9-2B320850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AF63-BFC7-4A26-B028-49518A92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4070-D03F-4D8D-82F1-B9E50F96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D784-59E8-4C23-95B7-0D75FFA3CCBE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FA36-C400-4CB7-B61B-7C7D43310482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99"/>
                </a:solidFill>
                <a:latin typeface="Arial"/>
              </a:rPr>
              <a:t>La danse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771640" y="3141720"/>
            <a:ext cx="365760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La danse est mon sport préféré parce que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Je peux exprimer mes émotions à travers ell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Je peux également avoir une meilleure forme physiqu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637320" y="3789360"/>
            <a:ext cx="180828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Je le pratique de manière ludique ou compétitive ?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Il y a six ans, je pratiquais ce sport de façon compétitiv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Maintenant, c’est ludique, parce que je n’ai plus le temps, ni l’argent pour faire de la compétition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156360" y="4149720"/>
            <a:ext cx="24480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Marie-Pier</cp:lastModifiedBy>
  <dcterms:modified xsi:type="dcterms:W3CDTF">2007-11-18T18:49:56Z</dcterms:modified>
  <cp:revision>10</cp:revision>
  <dc:subject/>
  <dc:title>Le chien</dc:title>
</cp:coreProperties>
</file>