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569-CDAD-4D2F-BE24-BE424785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EC9-EF16-4F2D-B358-ADE09BF7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34B3-FFD2-4452-A2FF-1C54D4FB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3C7-3C45-458B-9DCA-2696DBD2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2BEC-4A3B-42EA-998F-959927A7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CC42-F118-4C4F-8C47-D24B6000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FDBB-808A-4B01-AB63-F0455B45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B682-8AC4-40BB-9DD6-3546EE8A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381D-8B00-4378-9738-22060DD8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95D9-278B-4F5E-AAC8-6A8CC52E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7F90-B999-4436-837C-F3262DB9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948-18AA-4C93-80C0-4F908AD0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F173-EF90-403E-BC9B-26F35324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B36A-59BD-480B-BB36-0D8A78FA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A470-BABF-45D6-86D7-FC9FDF5F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6929-91B3-4736-B4F8-9ACACED8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503D-1EC3-4430-B5BF-6EF12CBF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64E-4B64-4917-AA70-FE02992B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1E0-8B9B-4D2A-B35E-8595A12F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627-0CA5-4FFA-A287-FEC89E6C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2B4-53F5-4292-9784-41304EB1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CEBD-3604-4AE7-9634-2C2BBB48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111-1EFC-4EC8-AF07-1DDCB420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1B0-70C1-4D90-8B59-5457E836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C8D3-0DF9-48CE-944B-98C34B843AE1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10E0-DAA6-4909-AAB5-E27296DA8659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La danse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a danse 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exprimer mes émotions à travers el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également avoir une meilleure forme physiqu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637320" y="3789360"/>
            <a:ext cx="18082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l y a six ans, je pratiquais ce sport de façon compéti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aintenant, c’est ludique, parce que je n’ai plus le temps, ni l’argent pour faire de la compétitio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448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8T18:49:56Z</dcterms:modified>
  <cp:revision>10</cp:revision>
  <dc:subject/>
  <dc:title>Le chien</dc:title>
</cp:coreProperties>
</file>