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F36-30D1-4595-8DB1-AD43A7C2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CB0-C0DB-4129-85AB-49128298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7D3-827D-4A27-80E4-EA0E7965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F91-B5CA-43BC-9904-2215BE70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33A0-BA88-496D-B852-048F26BD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DDD7-D8BE-4B69-AEA8-C8D2D975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2BA5-CFFE-46E5-8CFF-C5B0DC82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1934-27A9-480F-A6CE-9D3A5F3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FAF4-8E84-4C11-89E3-4DB716F4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E68F-C7DC-4A17-AE55-AD4E1157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E677-2248-48BE-855C-CFD19A5E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1E8-55A3-463C-B307-CA89A8A6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2B50-A4B9-47E8-9BE2-F6376CC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611B-9B56-4764-B361-DA68F48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AAAF-AF22-4C9B-BE87-2D2322BF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0F90-FFE9-44B6-9116-EFB18E07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8F2E-5A49-41C9-9794-9BE47F5A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4B5-03A4-42C6-AFCE-328D549A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94F-74CA-4C9F-9098-CAFF57F7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A87-E7E4-4A39-A425-0365DD6A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EEB-1F7A-4B26-85DF-40CE9DDF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799-222E-4E37-BF48-EC2255F0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743-7A52-4482-99BC-348BDCE6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14B-D4CE-443A-AFFE-BC80D580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314A-26C3-4F77-BCE7-3492C5145A51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0D57-123F-49F1-8AAB-D0253CFAE10D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Voici mon sport préféré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9T14:39:17Z</dcterms:modified>
  <cp:revision>11</cp:revision>
  <dc:subject/>
  <dc:title>Le chien</dc:title>
</cp:coreProperties>
</file>