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488F-3085-4D7B-B9D6-C6283894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0CCE-45D6-48B1-8F4B-E39CC874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94A2-6FF6-4D6C-A49E-3B375406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6AD8-488E-497E-878D-0991DE53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413E-2092-4E86-97A1-98F6FB24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510C-61C3-432D-9B60-03636873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7FFF-0738-4435-8E96-C565E4F7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A2DC-55C4-4C12-A021-1411FA62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364C-0B98-48E0-BC52-E74E1D3E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0227-8F1A-45F4-BC75-4F91D840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4301-9FAB-4E75-97C7-D9BFF12B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2B32-8526-488B-A141-3BBB2460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D2CC-70DC-4540-8A42-1ABAABEE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FEDE-5973-4D25-9F12-DFA63906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05D8-214C-437D-8319-A6577F89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35A6-D79C-44B6-8031-5DC52A00B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7E54-230B-4466-97A2-81FDE57B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7C1A-C5E8-4FE4-862E-18EFB1E2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38D9-5434-4C52-9796-6ADF809B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5BF3-79FD-40B8-AA0A-A56C30F5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2219-B0AF-4161-AD47-F1AF4319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EB50-08A1-4743-AA56-7F87A4A9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8AA6-BA1B-4C9C-98DA-480100D3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96C4-991B-4F85-85D6-32592F2F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BB63-6F3D-46C1-8D77-093460EBD8BF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93DF-9E6E-40BB-991F-E7D196920776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La danse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a danse est mon sport préféré parce que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peux exprimer mes émotions à travers ell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peux également avoir une meilleure forme physiqu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e le pratique de manière ludique ou compétitive ?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Il y a six ans, je pratiquais ce sport de façon compétitiv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Maintenant, c’est ludique, parce que je n’ai plus le temps, ni l’argent pour faire de la compétition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99"/>
                </a:solidFill>
                <a:latin typeface="Arial"/>
              </a:rPr>
              <a:t>Voici mon sport préféré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657600" cy="2609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637320" y="3789360"/>
            <a:ext cx="1808280" cy="2712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50920" y="4365720"/>
            <a:ext cx="2448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19T14:39:17Z</dcterms:modified>
  <cp:revision>11</cp:revision>
  <dc:subject/>
  <dc:title>Le chien</dc:title>
</cp:coreProperties>
</file>