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F56-2F9F-46A8-8AB1-87F6B987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DAB-6B9B-4D77-B04E-A589B1C4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79B-B7C6-4827-9B22-4CF0758E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A29-7EB2-48BD-AA7B-10A1BA29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5319-22F5-4A24-95C2-E80B0714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9F22-C417-45B2-BC80-FC530B0B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4049-C3FE-453C-88DB-448B1475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F494-2DA4-4999-A28F-36D73347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7C4F-8437-446C-8F42-5AF7D978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2767-4FEC-4596-9763-9B15D5FF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D651-4F3E-4852-8D13-BDF171A3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4B3-F8C2-462E-B4F1-8662BD2B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0CA3-FF4F-4AE8-BD75-AE5237FE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21DF-5104-4336-9B94-2811DC9E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2425-D14A-48D6-A361-A4C782D9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0E7A-ACC1-4053-A5DA-066B1A5B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65F0-72FD-40F0-8338-D8EBED51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F3A-8DE0-4115-B0E3-0CB9A961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FE3-4E60-439F-982E-EE87D4B7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E75-9676-40F9-AEF6-CD02ED4E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AB0-FA30-4FF7-AFCB-53DBD47D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2C9E-9762-4734-898D-BD108978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121-B37C-46C1-8642-A237762B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424-3AEC-42B9-8AA5-0661989B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8D61-B091-4719-810E-A183E9D86EB2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E90C-666F-4AD7-90FB-98EB207E1491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La danse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a danse 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exprimer mes émotions à travers el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également avoir une meilleure forme physiqu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l y a six ans, je pratiquais ce sport de façon compéti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Maintenant, c’est ludique, parce que je n’ai plus le temps, ni l’argent pour faire de la compétitio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99"/>
                </a:solidFill>
                <a:latin typeface="Arial"/>
              </a:rPr>
              <a:t>Voici mon sport préféré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657600" cy="260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637320" y="3789360"/>
            <a:ext cx="1808280" cy="2712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448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9T14:39:17Z</dcterms:modified>
  <cp:revision>11</cp:revision>
  <dc:subject/>
  <dc:title>Le chien</dc:title>
</cp:coreProperties>
</file>