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D8F-669B-47E9-A16A-1B091C85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7E0-E164-4103-9074-6AD751AC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A28-7E86-4F03-AAF5-F7590582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445-32D3-4188-873E-69A81EFA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14AB-CA74-4B48-AB6E-D3C153A0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6A80-2DB5-4100-8297-B91D5A5B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23C4-309A-4B72-BBDD-9C1339D1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5606-B445-430E-8F88-029C9276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E0A6-F229-4CC4-A712-ACCCE5E8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818C-B2AA-44CE-831B-E147FB1A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FEBC-F092-4F16-A7C7-51C850A8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08E-7CA1-434B-936F-76A953B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0F6D-C865-4F55-A4DA-515BFD7B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5F19-B2B8-4BBD-AB2D-4D511205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5580-804E-43CF-9FC0-81AD759F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CB0-1BFC-4FC2-A97D-F09A01C2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2EED-4CE0-4B36-B0F3-CF7F38D4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431-2144-47AA-BA72-61A0C868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306-B7B3-4881-A8B4-17CE0F73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157-0EDA-4560-892E-9CF759E4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9EB-F192-4471-BE25-57BFC2FB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160-FA6C-4DEF-A3EE-CE1F4175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ADE-F790-4561-BCBF-6400376B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1BD-4946-4570-A263-1286A7E2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0CD4-A2F9-4817-B34D-28340DA9A8EE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731B-7EB3-498C-8112-AF8E3DEF28E0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Voici mon sport préféré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9T14:39:17Z</dcterms:modified>
  <cp:revision>11</cp:revision>
  <dc:subject/>
  <dc:title>Le chien</dc:title>
</cp:coreProperties>
</file>