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74BB-7D74-42B9-9E12-EBCF4BF51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4E47-E220-4239-A59C-37DE1254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A64D-97E6-4653-8FB3-A62F1FAB1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C259-A1DA-46BC-A53B-B7FCD27F8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7619-5D2F-4495-85D9-B438FE234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6DD3-68FF-4EB1-BCB5-70B38F02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1602-7595-40BC-BF35-4D48AB33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06C7-203E-4007-BF07-16303A8F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38E4-5649-4CF1-AD26-38E19267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6CE5-B8A6-4833-983B-D7805377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E102-313A-4640-96E5-2DEA886F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EC4E-F9EE-452E-AD4E-36A2CD85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EFA4-12A1-4159-ABBE-A2B3DDD6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5774-AE4E-4E3A-941A-3E279E53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0AD6-195A-42DA-A2A1-5D29DB0A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62FE-EF97-4519-87EE-1306BE391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69A6-EFA4-4A22-B849-ACFCA09B0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32D4-4584-4C99-AA1B-5960B8D9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66D9-CC5D-402E-B0E2-0924FF1F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C1B6-97B3-4883-8674-B723751F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76F7-798F-4500-9CDC-17EE4ACE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E1C2-87E5-4459-BE41-87919C48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0E95-9EC6-46CF-81BE-935A5ACF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2F7E-B661-4A58-822D-3979CB33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4608-32D0-4813-9B00-61511DC0BDF7}" type="slidenum">
              <a:rPr b="0" lang="fr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58D2-2A53-49D3-878F-24EE54129E07}" type="slidenum">
              <a:rPr b="0" lang="fr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99"/>
                </a:solidFill>
                <a:latin typeface="Arial"/>
              </a:rPr>
              <a:t>La danse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771640" y="3141720"/>
            <a:ext cx="365760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La danse est mon sport préféré parce que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Je peux exprimer mes émotions à travers ell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Je peux également avoir une meilleure forme physiqu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637320" y="3789360"/>
            <a:ext cx="180828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Je le pratique de manière ludique ou compétitive ?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Il y a six ans, je pratiquais ce sport de façon compétitiv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Maintenant, c’est ludique, parce que je n’ai plus le temps, ni l’argent pour faire de la compétition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156360" y="4149720"/>
            <a:ext cx="244800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Marie-Pier</cp:lastModifiedBy>
  <dcterms:modified xsi:type="dcterms:W3CDTF">2007-11-18T18:49:56Z</dcterms:modified>
  <cp:revision>10</cp:revision>
  <dc:subject/>
  <dc:title>Le chien</dc:title>
</cp:coreProperties>
</file>