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E3495-C37A-4434-80B6-28DD46F47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9A41-5EA1-49BE-96E9-8DD1FFF69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86522-C510-4D4C-9ECA-BFAC90AF1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4FEAC-F73F-4BFF-A404-B1F5EC10F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1E04F-A816-4116-B009-69F1BDB57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DADFC-8691-46CE-BD59-BE8DA389C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F38FC-9D03-4F34-9E8B-AB7BD44E7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74AA3-D8DC-4033-B694-30FC07ABA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42CF3-4ABF-43BF-920D-7B95071A9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EA690-0F5C-41A6-B7F1-7C23F702A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B9E30-694A-4301-BEF8-29E5FBFEC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1048C-A3BE-4440-BE2F-3544F3658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9D753-A584-4145-ACCF-4EF64559C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D4177-D7B0-40D4-9542-74FA2BD65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827F5-4831-4DBA-BBDE-334E2170E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7250F-7CFD-4F98-BB85-86D53156A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37474-A636-4A6A-8DA2-CE3285D53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3EAC5-AC8E-4B2C-B175-4856700C9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83054-795A-4292-B404-FD8AC587E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EED2-B128-4E80-BF78-9D9F383B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C0092-4A83-438B-825E-C07A35DA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06EC0-5A00-4C9C-A150-EBAF03B3C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6AF6C-C1CF-4E68-B38D-90E874D80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13E1-F8D4-47AA-B312-F28D20DC9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7E5B-21DB-4353-89ED-2816DAFF0F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2401-715F-438F-AAD8-E2B109908D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4"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372360" y="4581360"/>
            <a:ext cx="1431720" cy="183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564000" y="4508640"/>
            <a:ext cx="1825560" cy="12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38"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39" name="" descr=""/>
          <p:cNvPicPr/>
          <p:nvPr/>
        </p:nvPicPr>
        <p:blipFill>
          <a:blip r:embed="rId1"/>
          <a:stretch/>
        </p:blipFill>
        <p:spPr>
          <a:xfrm>
            <a:off x="611280" y="620640"/>
            <a:ext cx="1393560" cy="1584360"/>
          </a:xfrm>
          <a:prstGeom prst="rect">
            <a:avLst/>
          </a:prstGeom>
          <a:ln w="0">
            <a:noFill/>
          </a:ln>
        </p:spPr>
      </p:pic>
      <p:pic>
        <p:nvPicPr>
          <p:cNvPr id="140" name="" descr=""/>
          <p:cNvPicPr/>
          <p:nvPr/>
        </p:nvPicPr>
        <p:blipFill>
          <a:blip r:embed="rId2"/>
          <a:stretch/>
        </p:blipFill>
        <p:spPr>
          <a:xfrm>
            <a:off x="6659640" y="5373720"/>
            <a:ext cx="1803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45:45Z</dcterms:modified>
  <cp:revision>12</cp:revision>
  <dc:subject/>
  <dc:title>Le trio Parfait</dc:title>
</cp:coreProperties>
</file>