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jpeg" ContentType="image/jpe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7ED73-2937-45A4-A178-5E0C09CD2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B5DED-7B39-48E1-9667-63A92D5BA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C7F90-F020-495A-B897-62214FF4E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AC78C-49EF-4601-8E00-DF09761C9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EF064-3BDF-4F94-8774-4C3C86A2B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EA9AE-3630-4639-A21E-BBA6408A0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7676C-325D-42E7-9D33-647D03809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F0BBE-7270-40E9-86B7-8C3156BE8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D8618-CDFC-4370-A313-698D5483D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E1B78-68FE-4F73-B65E-004CE14AC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A182B-57C7-4D92-8693-3FC581B5B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E4F1F-B55F-49EB-9CBB-3C837F50B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DEA64-5901-4AEE-A34B-5F4F57250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5ED18-E8FD-47A7-BCAC-B68A5B900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FAE9E-5180-42A6-A2D0-55FCF0447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6C0D7-CCC8-4BC6-9FCD-D29FC2E9C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8E64D-9138-4674-918D-AF710DB351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7FA9A-FC35-4768-AC4F-58D014E09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086EF-1F8F-4A88-A554-522ACD63F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FE7BA-0C40-4D18-AFEA-3893839A2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ED913-474B-4E57-A16B-745EF21D1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14162-2A30-4F2A-8AD6-14BF0BAF4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00C74-CBF5-4CE1-BECB-92C5AE02A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3AE36-0596-477E-BC8D-5E32736B1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F2F3-591C-489B-8A01-DE2BCAFD7A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26E8-69D7-4A4E-B4CA-3047274DED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Le trio parfait</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395280" y="2276640"/>
            <a:ext cx="835344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ar un matin d’école comme les autres à la Polyvalente Nicolas-Gatineau, Stace et Martine deux étudiantes de deuxième secondaire se rendirent à leur cours un peu plus tôt que d’habitude. </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7020000" y="4437000"/>
            <a:ext cx="1162080" cy="197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clencheur</a:t>
            </a:r>
            <a:endParaRPr b="1" lang="en-US" sz="5400" spc="-1" strike="noStrike">
              <a:solidFill>
                <a:srgbClr val="feec94"/>
              </a:solidFill>
              <a:latin typeface="Times New Roman"/>
            </a:endParaRPr>
          </a:p>
        </p:txBody>
      </p:sp>
      <p:sp>
        <p:nvSpPr>
          <p:cNvPr id="124" name="PlaceHolder 2"/>
          <p:cNvSpPr>
            <a:spLocks noGrp="1"/>
          </p:cNvSpPr>
          <p:nvPr>
            <p:ph type="subTitle"/>
          </p:nvPr>
        </p:nvSpPr>
        <p:spPr>
          <a:xfrm>
            <a:off x="684360" y="2420640"/>
            <a:ext cx="7632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n chemin pour leur cours de français, elles rencontrèrent un jeune garçon qui pleurait dans un coin. </a:t>
            </a:r>
            <a:endParaRPr b="0" lang="en-US" sz="3200" spc="-1" strike="noStrike">
              <a:solidFill>
                <a:srgbClr val="ffffff"/>
              </a:solidFill>
              <a:latin typeface="Times New Roman"/>
            </a:endParaRPr>
          </a:p>
        </p:txBody>
      </p:sp>
      <p:pic>
        <p:nvPicPr>
          <p:cNvPr id="125" name="" descr=""/>
          <p:cNvPicPr/>
          <p:nvPr/>
        </p:nvPicPr>
        <p:blipFill>
          <a:blip r:embed="rId1"/>
          <a:stretch/>
        </p:blipFill>
        <p:spPr>
          <a:xfrm>
            <a:off x="611280" y="476280"/>
            <a:ext cx="138096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40428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1</a:t>
            </a:r>
            <a:endParaRPr b="1" lang="en-US" sz="5400" spc="-1" strike="noStrike">
              <a:solidFill>
                <a:srgbClr val="feec94"/>
              </a:solidFill>
              <a:latin typeface="Times New Roman"/>
            </a:endParaRPr>
          </a:p>
        </p:txBody>
      </p:sp>
      <p:sp>
        <p:nvSpPr>
          <p:cNvPr id="127" name="PlaceHolder 2"/>
          <p:cNvSpPr>
            <a:spLocks noGrp="1"/>
          </p:cNvSpPr>
          <p:nvPr>
            <p:ph type="subTitle"/>
          </p:nvPr>
        </p:nvSpPr>
        <p:spPr>
          <a:xfrm>
            <a:off x="539280" y="2133360"/>
            <a:ext cx="7993080" cy="4174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ors, elles décidèrent d’aller le voir et lui demandèrent ce qui n’allait pas. Le jeune garçon leva la tête et les regarda sans rien dire. </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ès un moment, il décida enfin à parler. Il leur raconta ce qui lui arrivait. Le garçon leur dit qu’il se nomme Dominic et que tout le monde se moque de lui, à cause de la façon dont il s’habille et qu’il s’exprime. C’est pourquoi il est toujours seul et triste. </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2</a:t>
            </a:r>
            <a:endParaRPr b="1" lang="en-US" sz="5400" spc="-1" strike="noStrike">
              <a:solidFill>
                <a:srgbClr val="feec94"/>
              </a:solidFill>
              <a:latin typeface="Times New Roman"/>
            </a:endParaRPr>
          </a:p>
        </p:txBody>
      </p:sp>
      <p:sp>
        <p:nvSpPr>
          <p:cNvPr id="129" name="PlaceHolder 2"/>
          <p:cNvSpPr>
            <a:spLocks noGrp="1"/>
          </p:cNvSpPr>
          <p:nvPr>
            <p:ph type="subTitle"/>
          </p:nvPr>
        </p:nvSpPr>
        <p:spPr>
          <a:xfrm>
            <a:off x="539640" y="2420640"/>
            <a:ext cx="8064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le consolèrent et lorsqu’il fut calmé, toutes deux se nommèrent et lui dirent qu’elles étaient en secondaire deux. Après, elles lui demandèrent en quelle année il était. Il leur répondit qu’il était en deuxième secondaire lui aussi.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6804000" y="333360"/>
            <a:ext cx="1590840" cy="180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3</a:t>
            </a:r>
            <a:endParaRPr b="1" lang="en-US" sz="5400" spc="-1" strike="noStrike">
              <a:solidFill>
                <a:srgbClr val="feec94"/>
              </a:solidFill>
              <a:latin typeface="Times New Roman"/>
            </a:endParaRPr>
          </a:p>
        </p:txBody>
      </p:sp>
      <p:sp>
        <p:nvSpPr>
          <p:cNvPr id="132" name="PlaceHolder 2"/>
          <p:cNvSpPr>
            <a:spLocks noGrp="1"/>
          </p:cNvSpPr>
          <p:nvPr>
            <p:ph type="subTitle"/>
          </p:nvPr>
        </p:nvSpPr>
        <p:spPr>
          <a:xfrm>
            <a:off x="468360" y="1773360"/>
            <a:ext cx="8136000" cy="4680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tine et Stace décidèrent de l’inviter  à se joindre à elles pour dîner de sorte qu’ils puissent continuer de discuter. Dominic accepta rapidement l’invitation. Il était si content!</a:t>
            </a:r>
            <a:endParaRPr b="0" lang="en-US" sz="3200" spc="-1" strike="noStrike">
              <a:solidFill>
                <a:srgbClr val="ffffff"/>
              </a:solidFill>
              <a:latin typeface="Times New Roman"/>
            </a:endParaRPr>
          </a:p>
        </p:txBody>
      </p:sp>
      <p:pic>
        <p:nvPicPr>
          <p:cNvPr id="133" name="" descr=""/>
          <p:cNvPicPr/>
          <p:nvPr/>
        </p:nvPicPr>
        <p:blipFill>
          <a:blip r:embed="rId1"/>
          <a:stretch/>
        </p:blipFill>
        <p:spPr>
          <a:xfrm>
            <a:off x="6372360" y="4581360"/>
            <a:ext cx="1431720" cy="183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nouement</a:t>
            </a:r>
            <a:endParaRPr b="1" lang="en-US" sz="5400" spc="-1" strike="noStrike">
              <a:solidFill>
                <a:srgbClr val="feec94"/>
              </a:solidFill>
              <a:latin typeface="Times New Roman"/>
            </a:endParaRPr>
          </a:p>
        </p:txBody>
      </p:sp>
      <p:sp>
        <p:nvSpPr>
          <p:cNvPr id="135" name="PlaceHolder 2"/>
          <p:cNvSpPr>
            <a:spLocks noGrp="1"/>
          </p:cNvSpPr>
          <p:nvPr>
            <p:ph type="subTitle"/>
          </p:nvPr>
        </p:nvSpPr>
        <p:spPr>
          <a:xfrm>
            <a:off x="539640" y="1915920"/>
            <a:ext cx="8136000" cy="453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u dîner, les trois amis se rencontrèrent et discutèrent longtemps. Ainsi, Stace et Martine trouvèrent que Dominic était très gentil et qu’il avait plein de chose en commun avec elles. </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3564000" y="4508640"/>
            <a:ext cx="1825560" cy="122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onclusion</a:t>
            </a:r>
            <a:endParaRPr b="1" lang="en-US" sz="5400" spc="-1" strike="noStrike">
              <a:solidFill>
                <a:srgbClr val="feec94"/>
              </a:solidFill>
              <a:latin typeface="Times New Roman"/>
            </a:endParaRPr>
          </a:p>
        </p:txBody>
      </p:sp>
      <p:sp>
        <p:nvSpPr>
          <p:cNvPr id="138" name="PlaceHolder 2"/>
          <p:cNvSpPr>
            <a:spLocks noGrp="1"/>
          </p:cNvSpPr>
          <p:nvPr>
            <p:ph type="subTitle"/>
          </p:nvPr>
        </p:nvSpPr>
        <p:spPr>
          <a:xfrm>
            <a:off x="468000" y="2276640"/>
            <a:ext cx="828036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dirent à Dominic de ne plus s’inquiéter, car il pourrait se joindre à elles tous les jours dorénavant. Dominic fut fou de joie et les remercia. Depuis ce moment ils se ressemblèrent pour dîner tous les jours et lors des pauses pour discuter et s’amuser. Ils devinrent le trio inséparable. </a:t>
            </a:r>
            <a:endParaRPr b="0" lang="en-US" sz="3200" spc="-1" strike="noStrike">
              <a:solidFill>
                <a:srgbClr val="ffffff"/>
              </a:solidFill>
              <a:latin typeface="Times New Roman"/>
            </a:endParaRPr>
          </a:p>
        </p:txBody>
      </p:sp>
      <p:pic>
        <p:nvPicPr>
          <p:cNvPr id="139" name="" descr=""/>
          <p:cNvPicPr/>
          <p:nvPr/>
        </p:nvPicPr>
        <p:blipFill>
          <a:blip r:embed="rId1"/>
          <a:stretch/>
        </p:blipFill>
        <p:spPr>
          <a:xfrm>
            <a:off x="611280" y="620640"/>
            <a:ext cx="1393560" cy="1584360"/>
          </a:xfrm>
          <a:prstGeom prst="rect">
            <a:avLst/>
          </a:prstGeom>
          <a:ln w="0">
            <a:noFill/>
          </a:ln>
        </p:spPr>
      </p:pic>
      <p:pic>
        <p:nvPicPr>
          <p:cNvPr id="140" name="" descr=""/>
          <p:cNvPicPr/>
          <p:nvPr/>
        </p:nvPicPr>
        <p:blipFill>
          <a:blip r:embed="rId2"/>
          <a:stretch/>
        </p:blipFill>
        <p:spPr>
          <a:xfrm>
            <a:off x="6659640" y="5373720"/>
            <a:ext cx="1803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5:06:15Z</dcterms:created>
  <dc:creator>Marie-Pier</dc:creator>
  <dc:description/>
  <dc:language>en-US</dc:language>
  <cp:lastModifiedBy>Marie-Pier</cp:lastModifiedBy>
  <dcterms:modified xsi:type="dcterms:W3CDTF">2007-11-21T01:45:45Z</dcterms:modified>
  <cp:revision>12</cp:revision>
  <dc:subject/>
  <dc:title>Le trio Parfait</dc:title>
</cp:coreProperties>
</file>