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05CC0-C48E-4FAB-A052-B2B706FC9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C3182-4CA5-4341-BA97-3AD92E063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744DF-F1E7-4D88-BB32-50B632026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1A19B-CD42-4F90-AD39-998095CD0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D42759-2BA8-4710-89F4-7776B2175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0EE10-A58E-447A-928A-9C4DAC455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C8738-B790-44FB-8B9D-BEA2BF106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7CEB3-FE0C-4A2F-AA75-0B3393D8F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F8C3F-3D0F-48EE-927F-DEABFCB41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958FB-DD6F-43FD-B04B-02B896A1D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348DA-C1EC-479E-B56E-20953599B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CF3D8-5471-4631-A101-41B5DD9EA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C58B4-C715-4511-ABED-359158B69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D2D32-FF6E-40C3-A709-45255CACE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CC6CF-4699-48C2-B2DA-9595DF3F8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17689-44F3-4A97-8116-5FE32AAB5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DF3B5-ECDD-4C7E-88C1-6D9F60701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45BAA-7F0D-49EC-AC5D-04789F0B2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DF367-DD66-4FCA-AC2A-EA4912F57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3A8C2-7D76-470C-BEBC-1C964ECAD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B8A0A-6C56-4122-85D1-EFA2E1B53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BD003-0838-40E6-8C24-6BCC4BB07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58829-A192-4AC2-BFD5-B84986D2A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AA62F-D417-4449-9B16-61C67A530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1A74-CF68-4658-87BE-8DD5EBA078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33B2-3827-44E2-968C-D652A48124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4"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5"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29"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372360" y="4581360"/>
            <a:ext cx="1431720" cy="183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3564000" y="4508640"/>
            <a:ext cx="1825560" cy="122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38"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39" name="" descr=""/>
          <p:cNvPicPr/>
          <p:nvPr/>
        </p:nvPicPr>
        <p:blipFill>
          <a:blip r:embed="rId1"/>
          <a:stretch/>
        </p:blipFill>
        <p:spPr>
          <a:xfrm>
            <a:off x="611280" y="620640"/>
            <a:ext cx="1393560" cy="1584360"/>
          </a:xfrm>
          <a:prstGeom prst="rect">
            <a:avLst/>
          </a:prstGeom>
          <a:ln w="0">
            <a:noFill/>
          </a:ln>
        </p:spPr>
      </p:pic>
      <p:pic>
        <p:nvPicPr>
          <p:cNvPr id="140" name="" descr=""/>
          <p:cNvPicPr/>
          <p:nvPr/>
        </p:nvPicPr>
        <p:blipFill>
          <a:blip r:embed="rId2"/>
          <a:stretch/>
        </p:blipFill>
        <p:spPr>
          <a:xfrm>
            <a:off x="6659640" y="5373720"/>
            <a:ext cx="1803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45:45Z</dcterms:modified>
  <cp:revision>12</cp:revision>
  <dc:subject/>
  <dc:title>Le trio Parfait</dc:title>
</cp:coreProperties>
</file>