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15723-C997-477F-91BB-A8F03256C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F3E44-14AD-4CF5-A30F-5D8CD3DD2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395E6-F637-42B4-B685-B2F84646F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6A0E4-57DD-45AD-88CA-51D9C8B28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11BE0-C45F-4EE3-93CE-021B303AA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C6AA7-E6D1-4574-BE0D-9AD3A839C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3EE22-C1ED-45E1-A9C5-DDCCCD4B6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8C96B-FEFB-47EB-9149-976F3970E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A3D0C-DABD-43F6-B918-75B17E1E2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4A074-243E-4A5A-A2DD-88EAA281B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2C944-BDC5-4B26-95E7-A71C70DB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8EE69-4CBC-4919-9283-430EF5F01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BCB76-DC80-4560-829C-6A6E9432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D2E08-59A0-4B54-9E8C-E1C2617F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DB5DA-935F-449D-B3B5-D83747965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B2E2B-6C86-4E66-9ECC-DEC944A58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4FCBA-8CDF-4BAD-8D5F-C3E9F130C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E642F-CD2A-4A5C-815E-1B76CFA08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CFE58-748B-4919-98A2-5E31716C4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7FEE3-32A0-47E5-8217-4A49A1FDC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B403A-ED59-4475-85CC-489D5BC17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EB121-63ED-40C0-928F-F04214E1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68738-2FEC-42E8-9D10-B5C7DF98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17B2A-E288-4B5D-B1FA-430F4486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2ED88-CBF1-4F9B-AC64-12CBCB425FD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2D459-A6B1-4DC9-8B03-86EE97746F1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MON NOËL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Écrit par: Mélanie Pay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 rot="1129800">
            <a:off x="6300720" y="980640"/>
            <a:ext cx="2592360" cy="2438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 rot="20307600">
            <a:off x="0" y="1341000"/>
            <a:ext cx="29559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Le souper de noël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’ai bien aimé le souper de noël. J’y ai mangé de la dinde, de la tourtière et même de la bûche de noël. Un vrai délic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411280" y="3429000"/>
            <a:ext cx="403236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Le réveillon de noël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us sommes allés passer le réveillon chez mes grands-parents. Mon père a joué de la guitare et ma mère a chanté des chansons. Nous avons tous dansé!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419640" y="3645000"/>
            <a:ext cx="1908000" cy="26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Le lendemai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À notre réveil, ma grand-mère avait préparé un brunch et tout le monde a mang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rès, nous nous sommes habillés chaudement et nous sommes allés gliss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Nous avons eu beaucoup de plaisir.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403280" y="1484280"/>
            <a:ext cx="6553440" cy="49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Le temps du repo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rès les festivités, j’en ai profité pour me reposer un peu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987640" y="2708280"/>
            <a:ext cx="284004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Retour à l’écol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intenant, je suis reposée et je suis de retour à l’école pour vous enseign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484360" y="2781360"/>
            <a:ext cx="410364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0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9T19:41:45Z</dcterms:created>
  <dc:creator>STI</dc:creator>
  <dc:description/>
  <dc:language>en-US</dc:language>
  <cp:lastModifiedBy>STI</cp:lastModifiedBy>
  <dcterms:modified xsi:type="dcterms:W3CDTF">2007-11-19T19:58:01Z</dcterms:modified>
  <cp:revision>8</cp:revision>
  <dc:subject/>
  <dc:title>MON NOËL</dc:title>
</cp:coreProperties>
</file>