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10F9-2545-44BE-A9C0-8255BF4D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FB71-A14B-46B1-8710-9B743003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5CCC-C691-4224-BD59-D8BE471E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AB75-509F-45C3-BE09-97A10155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05D5-597F-46DC-BB17-BFA65BC1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456A-AA8E-42E8-A1B4-6E1BC7FC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B702-BA86-4385-B560-4951320C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8922-D836-400B-B7BF-E2F91633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12BE-8421-4FDA-9E1F-FC675059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3FE7-7B10-4F00-8135-32EB8610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493C-36FE-488C-AA90-068A2E12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676A-B482-43F4-B65A-0ECD6CBE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5AD8-90E6-416D-A2B1-EF299979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B345-FA41-48DD-BCE4-3A852122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1FD7-6F9B-4096-95B8-37BBEE20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A57E-8014-416B-8BF8-7B924AEE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725B-DA1A-45EE-B02A-475D11A8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4541-F4FE-4FB2-BFDC-9AA9FDBF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9DDE-0E76-4987-9D1F-D31A0C41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A034-83EA-40A1-BB6B-F0DDFFC9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AF6B-106F-4FD1-B139-DA05341C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C62A-D573-4242-913D-83A29F00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0047-5F0C-4445-A012-CA402947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589E-22D1-4558-B5DA-AC380B5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6C81-F951-4CAE-A61A-4754B3C03D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0C10-3CEF-4FA3-A54A-DA47D249A4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ON NOË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crit par: Mélanie P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129800">
            <a:off x="6300720" y="980640"/>
            <a:ext cx="2592360" cy="243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20307600">
            <a:off x="0" y="1341000"/>
            <a:ext cx="2955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souper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’ai bien aimé le souper de noël. J’y ai mangé de la dinde, de la tourtière et même de la bûche de noël. Un vrai déli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032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réveillon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s sommes allés passer le réveillon chez mes grands-parents. Mon père a joué de la guitare et ma mère a chanté des chansons. Nous avons tous dansé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190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lendema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À notre réveil, ma grand-mère avait préparé un brunch et tout le monde a mang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, nous nous sommes habillés chaudement et nous sommes allés glis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Nous avons eu beaucoup de plaisir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553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temps du rep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 les festivités, j’en ai profité pour me reposer un pe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2840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tour à l’éco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t, je suis reposée et je suis de retour à l’école pour vous enseig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41036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9:41:45Z</dcterms:created>
  <dc:creator>STI</dc:creator>
  <dc:description/>
  <dc:language>en-US</dc:language>
  <cp:lastModifiedBy>STI</cp:lastModifiedBy>
  <dcterms:modified xsi:type="dcterms:W3CDTF">2007-11-19T19:58:01Z</dcterms:modified>
  <cp:revision>8</cp:revision>
  <dc:subject/>
  <dc:title>MON NOËL</dc:title>
</cp:coreProperties>
</file>