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5CA-3167-4577-91D4-A4F05829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12DF-28F5-48E2-B759-2F01455F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67B0-9014-4AE8-A6C5-468E8629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7A5-D0D7-4C38-B013-96042200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B692-CC03-4807-8BB4-BF59BD9F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75DA-FE90-469F-A941-F18A1E4A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2110-FF1E-47DE-BB11-F8391F94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9871-4935-4C68-A3F1-11DA9C78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9443-7C83-4E20-A449-880AC02F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3001-8F0C-4BE5-BA8B-2C90F2F4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FECF-02BA-4CF6-A888-8E41BDA0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E95-6E79-4572-B089-86F657D9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4461-AF72-4B1F-88A9-D9138D27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A32F-D8F5-4304-BD6A-24746E50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A186-CC5B-48BB-92F5-A98C649F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587F-3CEC-49C1-9B1E-F0C98795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043D-48AA-49B5-A119-71EF4C17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DD7-570B-47BC-8207-14318387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C5A-3848-4015-A610-98716619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3C8-B8CE-490C-B531-FC3619CB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B3A-A303-448E-930F-74A6FE2D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2A4-2343-4D46-885C-6B32B314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9A6-6B8B-41AB-9ED8-A5D13CB7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CFB-40F7-4811-939B-54998AF9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C737-A1AA-4B76-9079-8F27F6A4AF95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24DA-0723-4D7D-82BA-CBE5235B4B4F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Mon nom est: 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Mon mets préféré est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34:54Z</dcterms:created>
  <dc:creator>Marie-Pier</dc:creator>
  <dc:description/>
  <dc:language>en-US</dc:language>
  <cp:lastModifiedBy>Marie-Pier</cp:lastModifiedBy>
  <dcterms:modified xsi:type="dcterms:W3CDTF">2007-11-20T16:59:00Z</dcterms:modified>
  <cp:revision>5</cp:revision>
  <dc:subject/>
  <dc:title>Mon nom est: </dc:title>
</cp:coreProperties>
</file>