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363-DA72-4284-8476-0E853F2F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CD0C-14E5-4B51-AD90-66146AA3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B05-220C-44B4-8BE5-7D1A0890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5F6-A656-49B7-88B5-145923A7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D238-9721-41B3-9923-59AB0A20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2710-B793-4681-ABE2-C64DCDD6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8D0D-379A-44E6-BFC3-707F5F76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0576-8EB3-4091-B276-B8B2E061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91AA-461B-4D71-A9B7-6B3E1E92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9A8D-051A-4915-AD36-F27C6BF2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E87D-B5C7-4BAE-9713-F1185D8B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4D5-A25B-47FE-8005-B3924048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FA31-4C29-4F5C-A619-8723D28C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4E89-0F12-438A-9456-151AE45A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4C4E-75B1-4ABE-9523-69B47B62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B0A1-6877-420A-BC90-92D4306A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988A-2865-448B-9AC2-27318A51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855-80F4-4349-AA95-DE144992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E88E-FAB6-487B-94AA-2FB39E75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82B-9371-413F-8FF0-E639E12B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AC7D-0411-46B5-A35E-D1A8A358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B5C-1E75-4B0E-BCE3-6BC06936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A56-EB47-400D-8A2A-65A91A8C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C44F-3B76-404A-BFD1-A3CBD145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2176-746C-4392-A00C-ED3673D7AFF6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6E16-8B32-44CB-8730-2EE70D8CBDC7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Mon nom est: 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Mon mets préféré est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34:54Z</dcterms:created>
  <dc:creator>Marie-Pier</dc:creator>
  <dc:description/>
  <dc:language>en-US</dc:language>
  <cp:lastModifiedBy>Marie-Pier</cp:lastModifiedBy>
  <dcterms:modified xsi:type="dcterms:W3CDTF">2007-11-20T16:59:00Z</dcterms:modified>
  <cp:revision>5</cp:revision>
  <dc:subject/>
  <dc:title>Mon nom est: </dc:title>
</cp:coreProperties>
</file>