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FD7D-0B3E-4B5D-BE19-D2617A57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C86F-B807-4031-9C01-C723ADA0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B3E5-3088-4FD2-A434-19D99170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1821-C336-4129-91CD-C5E73DAA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B943-97DB-4E2D-9B70-4F20EEDD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8118-6A39-4E90-8B4A-3CA0A3B6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415B-E9B2-4893-8F34-04D647EE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6373-E940-402E-A097-A82D07B3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C4A2-E59B-4644-B9FA-A5BA2111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4234-8C68-45A6-9E0F-89A171D6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2374-B648-43E6-AB57-5F408AA7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0CF1-4312-408D-A16D-C751DFFF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4FC4-E1F2-48C8-A7BE-69D764E9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E14D-3041-42F8-B57F-3A4384B2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5FC3-2FC3-47F6-A532-D0402284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AAC1-A8A7-4B2D-9197-81855D0C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B180-75AE-49BF-9F35-DBBFE6BC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981F-E81D-43B9-8529-72A0619A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F979-64B6-4E9D-BED8-18390884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18BA-5BDA-4466-B1DA-33F42297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7E76-929C-4DE0-A5A3-069F157F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DB34-A5B3-4549-8B0B-96AACC32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3688-C02F-4097-A631-8326A737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BBF6-CED9-4B12-8F7B-01B9BC71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1F4D-E5E9-45DD-B700-5D6127051D6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1F8A-1459-4482-879F-17293958934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on nom est: </a:t>
            </a:r>
            <a:br>
              <a:rPr sz="5400"/>
            </a:b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arie-Pier Paris-cloutie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ame Geneviè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n mets préféré est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La lasag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ici mon mets préféré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39607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50:35Z</dcterms:created>
  <dc:creator>Marie-Pier</dc:creator>
  <dc:description/>
  <dc:language>en-US</dc:language>
  <cp:lastModifiedBy>Marie-Pier</cp:lastModifiedBy>
  <dcterms:modified xsi:type="dcterms:W3CDTF">2007-11-18T16:54:51Z</dcterms:modified>
  <cp:revision>1</cp:revision>
  <dc:subject/>
  <dc:title>Mon nom est:  Marie-Pier Paris-cloutier</dc:title>
</cp:coreProperties>
</file>