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DBE7-D8B8-4AB6-AE52-1F5BDC2BD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C9A3-7C1A-4E2A-A98A-C5659E5B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CCBD-B71D-43B7-B9BD-56D6AE9AA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FC47-5414-41A7-B1E9-83889537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A8B9-8FEF-4C26-BC3D-B91AC0C3A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E13E-ED41-46C8-BDD0-1E41D944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9B4C-192D-43AE-BBC0-2B5BCE63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CBAD-5BA4-43D2-AEE8-DC921BF8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70B1-ABF9-4C11-B87C-070F6055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0175-B2F5-4CD0-98A4-E2687BAF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3A71-0E66-440E-B2CE-213F3792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9B3A-BD1B-4CC5-86F5-328ACFF5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5C06-A3FE-48DC-9E73-B951792E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519E-CA70-47A8-9F02-85FFF83C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CFCE-823B-4B1B-877D-D24F066A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C7C6-F6C2-4C88-933E-7A2FDF6A0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99BE-79FF-4CC9-9F96-7384AE65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BC79-44AA-46CA-9D15-078FBDED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AD7E-D535-48D9-B40C-A9697800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FE26-AD36-452F-A80C-658EA835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8E1D-EB9E-4218-955A-78DD2C1A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F356-961C-4130-A7E4-C9087785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B061-AEE0-4976-B5D2-DF267A57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001D-C43C-4AB7-88D1-B3C53EC2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F868-DD34-4469-A4F3-DA5267023B0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2B54-432A-4BEF-B1BE-9D3301BA470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5400" spc="-1" strike="noStrike">
                <a:solidFill>
                  <a:srgbClr val="ffffcc"/>
                </a:solidFill>
                <a:latin typeface="Tahoma"/>
              </a:rPr>
              <a:t>Mon nom est: </a:t>
            </a:r>
            <a:br>
              <a:rPr sz="5400"/>
            </a:br>
            <a:r>
              <a:rPr b="0" lang="fr-CA" sz="5400" spc="-1" strike="noStrike">
                <a:solidFill>
                  <a:srgbClr val="ffffcc"/>
                </a:solidFill>
                <a:latin typeface="Tahoma"/>
              </a:rPr>
              <a:t>Marie-Pier Paris-cloutier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dame Geneviè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n mets préféré est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La lasag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ici mon mets préféré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396072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50:35Z</dcterms:created>
  <dc:creator>Marie-Pier</dc:creator>
  <dc:description/>
  <dc:language>en-US</dc:language>
  <cp:lastModifiedBy>Marie-Pier</cp:lastModifiedBy>
  <dcterms:modified xsi:type="dcterms:W3CDTF">2007-11-18T16:54:51Z</dcterms:modified>
  <cp:revision>1</cp:revision>
  <dc:subject/>
  <dc:title>Mon nom est:  Marie-Pier Paris-cloutier</dc:title>
</cp:coreProperties>
</file>