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9186-DEBD-42D8-A5BE-CEABFE9F8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DFB5-BE2F-4376-8AE8-291EE661D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FC53-3817-46D5-B8B1-AB3C99EF6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D2C1-757E-4FDF-AE74-9A7FEF750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38CAA-D6A1-4430-8862-9CB00170C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9F319-6433-4A87-8097-7262E0F0A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56CE4-5F18-4FB4-81E7-8F39DEF59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F38E4-FD44-4691-B3DF-B0C395636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0E6FB-8197-4902-80D6-AAD27F6B3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682B7-348C-4958-B4A3-A5F003BAA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92229-D5FA-4E6B-A2D2-2E155CAD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ABC1-1729-4395-935E-B824E3E42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5EC34-12B9-4ABD-8A71-CE72B935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49F58-7D5D-4B4D-8EA7-F7979530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FF87B-3A73-4F93-A17F-02E88F1A0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F6FF8-E2F9-4690-AAB9-86197622F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298A3-FBB0-4515-ACE8-56EE55E41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494F-A2B1-466B-A60F-AD1ABAF45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7C1F-7279-492F-8731-A753CEDF3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291F-D5A8-482B-B765-E76D5E586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EDBC-1E05-487D-9B44-DFD087518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30F9-BB10-415C-A82D-1EE898E3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D96C-5FB6-4D41-9067-9B21251B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642A-4449-4FF5-8F50-E0E707A6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6d6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888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9C7C8-DA7F-4580-9C87-EA72E9FB38EE}" type="slidenum">
              <a:rPr b="0" lang="fr-C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62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888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A95D3-48D5-4E0B-BD4A-4F1E471D0AE6}" type="slidenum">
              <a:rPr b="0" lang="fr-C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Tahoma"/>
              </a:rPr>
              <a:t>Mon nom est: </a:t>
            </a: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 suis dans la classe de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Tahoma"/>
              </a:rPr>
              <a:t>Mon mets préféré est: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99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8T16:34:54Z</dcterms:created>
  <dc:creator>Marie-Pier</dc:creator>
  <dc:description/>
  <dc:language>en-US</dc:language>
  <cp:lastModifiedBy>Marie-Pier</cp:lastModifiedBy>
  <dcterms:modified xsi:type="dcterms:W3CDTF">2007-11-20T16:59:00Z</dcterms:modified>
  <cp:revision>5</cp:revision>
  <dc:subject/>
  <dc:title>Mon nom est: </dc:title>
</cp:coreProperties>
</file>