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DCF-BFFA-47F6-9DC4-1A6D154E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A00-26ED-46D3-9FFF-04FA7F7D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1C2-BC8B-4918-9CF1-8A72323B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149-7C3D-4FAE-93E2-3DC62A1C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7ACE-51AC-4B9C-A081-B3C10057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5193-DEA1-4220-A6F6-529A2D8C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00DA-8598-47C2-8361-91C19ABA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3CAC-6755-4204-87F1-8D9B14CB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9AA1-FD90-43A5-A787-D20A65F1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0D1B-B26D-48FD-AFBE-1FCEBB99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5C5F-DCD6-47C0-BEB3-FF662A5B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2D1-47E6-4275-87A1-DCB4E429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CE25-A7A6-4BC2-8C0D-220EAC86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6E37-63E4-49B0-A342-A7A02427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3903-D2B1-4C64-BBE7-EFD028E9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9354-DB51-4E41-A1AC-6E0242C9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72E6-7935-4E79-A78B-1E48E475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4D0-54C3-435F-8FDF-A8FCE940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276-9EE5-4086-A542-A4F9093F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8CC-DC3A-4BFB-ABB0-3F26990D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68A-2E19-43DE-9F17-3C1241C7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082-0799-4DC3-BB15-2435850E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555-DD45-4038-B1EF-A4EFD41C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5E5-698E-4878-9A0C-285196FB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24D6-0556-484A-BE38-CADDE85842CE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F204-C4C2-4B28-AC88-C4A7154A8702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20T16:59:00Z</dcterms:modified>
  <cp:revision>5</cp:revision>
  <dc:subject/>
  <dc:title>Mon nom est: </dc:title>
</cp:coreProperties>
</file>