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E6A-A65E-4013-BFF4-35634089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CA5-68B5-4DF4-842D-F2854C83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F909-3432-4978-B7EB-E40591B1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9EA-0F34-43BF-83D2-09A0658B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F9BB-407C-4C82-A248-5A3ECD8B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2B2D-43A6-4549-AF0D-B400F976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54F2-8234-42A3-8033-CC38029C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DED1-5F65-45B6-B48F-4EAA3F49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6BBA-623B-44CF-B836-00BACD73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6461-2E01-443A-98E8-A385520C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7B25-66AC-454B-95A5-452815EA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27F-1E71-4F47-B13A-C21C3A4C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5FC1-ECE2-4DF4-8F60-4548F76E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BEA1-6B41-45BF-AD78-814779CA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1C6B-EA6A-44EE-85C6-9F6CBD09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1778-FD90-4DA7-83D4-7509ADC3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F005-D8D4-4356-9355-671D032C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2CE-34D4-4BE7-93AD-F77C7D2A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CD9-0380-4534-AE84-E14E49E4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C4B-B98C-420D-842F-5E1A02CB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441-9B08-4E27-8523-500945B7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A67-AE31-46EA-AE26-FFB50F49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61A-3686-41F5-B794-D28A85B5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3C9-D161-4675-89DA-FB430A90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A802-E77C-446D-BFDA-C6469D2FD178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A6B8-9CE4-449C-8E3A-C66D5EE826A5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Mon nom est: 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Mon mets préféré est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34:54Z</dcterms:created>
  <dc:creator>Marie-Pier</dc:creator>
  <dc:description/>
  <dc:language>en-US</dc:language>
  <cp:lastModifiedBy>Marie-Pier</cp:lastModifiedBy>
  <dcterms:modified xsi:type="dcterms:W3CDTF">2007-11-20T16:59:00Z</dcterms:modified>
  <cp:revision>5</cp:revision>
  <dc:subject/>
  <dc:title>Mon nom est: </dc:title>
</cp:coreProperties>
</file>