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5F9-156A-4260-9327-CEB5CA35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B24-7125-48E8-85B0-86F59AE2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AB7-4EB4-4131-B93A-631622A8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435-93CF-41A0-B179-E219983B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308-E480-4395-B729-C5122912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355-896E-4103-BBC4-D4B6DAB0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E43-64AB-4D66-BF3B-5309C30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B39-6D48-47EC-9EB3-0FC492F9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69B-7320-48EC-B766-6B293AE9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A9D-1860-47EE-A63F-0CEA78C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0CA-4397-406E-9549-1B6A677A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8DD-0D7C-4D49-9B26-F2D52DD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CD1C-C73A-466F-A7DB-B76A7636A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: Mme Jo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n mets préféré es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6000" spc="-1" strike="noStrike">
                <a:solidFill>
                  <a:srgbClr val="000000"/>
                </a:solidFill>
                <a:latin typeface="Arial"/>
              </a:rPr>
              <a:t>La piz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15:28Z</dcterms:created>
  <dc:creator>Generic</dc:creator>
  <dc:description/>
  <dc:language>en-US</dc:language>
  <cp:lastModifiedBy>Josée Meunier</cp:lastModifiedBy>
  <dcterms:modified xsi:type="dcterms:W3CDTF">2007-11-20T01:24:28Z</dcterms:modified>
  <cp:revision>4</cp:revision>
  <dc:subject/>
  <dc:title>Nom:</dc:title>
</cp:coreProperties>
</file>