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F6A9-314C-4833-B12F-64683451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358A-008A-497D-AB24-98FECE8F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F713-A1E0-493A-AFD7-06B1AEEE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3997-C179-4BB8-ADE2-206F7359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1BB6-72F5-486C-A446-06B40AE3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A7D-82F1-40B6-A300-E301199B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774A-1C9F-4489-937C-A006C776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A29A-C762-43A8-A18F-4B828543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D083-829E-42BB-B2EF-99581A09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3FEE-0669-464F-B16F-A2C6264B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96F9-63BF-4E2A-9926-B08BFA5A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D8F9-4244-41FE-B730-1CB7AA4E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7B4D-2178-4645-9226-0F8FF6F76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m: Mme José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on mets préféré est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fr-CA" sz="6000" spc="-1" strike="noStrike">
                <a:solidFill>
                  <a:srgbClr val="000000"/>
                </a:solidFill>
                <a:latin typeface="Arial"/>
              </a:rPr>
              <a:t>La pizz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15:28Z</dcterms:created>
  <dc:creator>Generic</dc:creator>
  <dc:description/>
  <dc:language>en-US</dc:language>
  <cp:lastModifiedBy>Josée Meunier</cp:lastModifiedBy>
  <dcterms:modified xsi:type="dcterms:W3CDTF">2007-11-20T01:24:28Z</dcterms:modified>
  <cp:revision>4</cp:revision>
  <dc:subject/>
  <dc:title>Nom:</dc:title>
</cp:coreProperties>
</file>