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301-405F-4321-9AB7-AA1833CE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62A-E672-4D8C-B396-63721F5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DCE-6C65-4A82-BE19-1A93D5EC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39B-AF18-452D-B00B-7C0B0C82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B53-FC8D-4495-B4A3-597EDD24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D89-9A7D-4524-AE02-092E830F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216-5E74-4BB7-A0C3-5D252861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B51-6DC3-42D4-819F-F6B851F1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93D-3476-438C-ACEA-112AFE04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D40-4742-4EC3-93A0-84EEE39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D33-937E-4791-A4FD-38E84C28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A82-6A3A-4A05-B12B-5BF6F933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4506-7BE0-4B7A-9172-C85041676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: Mme Jo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n mets préféré es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6000" spc="-1" strike="noStrike">
                <a:solidFill>
                  <a:srgbClr val="000000"/>
                </a:solidFill>
                <a:latin typeface="Arial"/>
              </a:rPr>
              <a:t>La piz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5:28Z</dcterms:created>
  <dc:creator>Generic</dc:creator>
  <dc:description/>
  <dc:language>en-US</dc:language>
  <cp:lastModifiedBy>Josée Meunier</cp:lastModifiedBy>
  <dcterms:modified xsi:type="dcterms:W3CDTF">2007-11-20T01:24:28Z</dcterms:modified>
  <cp:revision>4</cp:revision>
  <dc:subject/>
  <dc:title>Nom:</dc:title>
</cp:coreProperties>
</file>