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250-06C2-4ED5-A80F-920DF93F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3FD-8782-46D8-9953-1DB8DCB1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A80-D27E-43FE-8FE9-42D52E3A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14A-BA8A-4321-B533-495547B7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EF6-6BE5-49BA-B31C-1DCD67AF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CDA-F7BE-4BE6-BB8B-AA02C75A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BCF-900F-4ABC-9039-B1244DEF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D40-28E0-43D5-BBA1-7B5BE157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DF8-16F7-4ABD-8C8B-4565875B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A56-215E-4E49-98C5-01115BA7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B8F-9C22-4A5B-AEEE-8C2B012E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2AA-7E54-497E-8D0B-E84DCD3B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FD34-D081-4F69-A91F-39436A22D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: Mme Jo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n mets préféré es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6000" spc="-1" strike="noStrike">
                <a:solidFill>
                  <a:srgbClr val="000000"/>
                </a:solidFill>
                <a:latin typeface="Arial"/>
              </a:rPr>
              <a:t>La piz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15:28Z</dcterms:created>
  <dc:creator>Generic</dc:creator>
  <dc:description/>
  <dc:language>en-US</dc:language>
  <cp:lastModifiedBy>Josée Meunier</cp:lastModifiedBy>
  <dcterms:modified xsi:type="dcterms:W3CDTF">2007-11-20T01:24:28Z</dcterms:modified>
  <cp:revision>4</cp:revision>
  <dc:subject/>
  <dc:title>Nom:</dc:title>
</cp:coreProperties>
</file>