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AA44-AE23-41F8-9C4B-E9B1A604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DF49-E0E9-4F9F-A8A9-80E63ED6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FA00-ACB1-493F-8944-08A90B4C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D471-49F8-4E32-BEB1-2275493C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6782-6E09-4A34-9412-C98D4383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DED0-8495-4327-9348-DFEEBD78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12CF-857A-44EE-AEC0-E2C0B8C5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0A29-5A91-4DFB-A0CB-B83EFDF9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62A0-860A-4098-BEF4-BC045847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6265-D39F-4DA6-A2EB-065ECD8C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F489-03F0-4DB7-8AC2-266EFFCC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8903-4C3B-4B2A-B2FB-895CDEEC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1957-2DAD-45ED-827E-EF748DC48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 socc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soccer est mon sport préféré parce qu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’est un sport d’équipe et j’en profite pour rencontrer mes am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 le pratique de manière ludique ou compétiti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Je le pratique pour le plaisir, mais il arrive que mon équipe joue contre l’équipe du village d’à côt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Marie-Pier</cp:lastModifiedBy>
  <dcterms:modified xsi:type="dcterms:W3CDTF">2007-11-20T17:52:45Z</dcterms:modified>
  <cp:revision>8</cp:revision>
  <dc:subject/>
  <dc:title>Le chien</dc:title>
</cp:coreProperties>
</file>