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FE1-EE32-43AF-94B9-8C516B4C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360-DD57-46B3-ABE0-71BC4CC1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F02-F75E-4530-B498-A52573BF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513-8489-4203-A0C2-6D7B38D0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161-11EA-4B94-8244-CC903C5D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7D1-E902-4158-B8E6-63854EE6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A72-C0D6-41E2-B3EB-9AC4EF7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BA2-B264-4F0C-8672-E3550416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F9F-5659-4FAD-9947-A87F465A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64F-549D-4A64-9FB4-B6DE23C0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945-25B7-4AC1-83E1-DDF95F8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D51-C581-483E-B5C7-3F214910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D686-E31E-4CA3-B061-EFE26BA23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52:45Z</dcterms:modified>
  <cp:revision>8</cp:revision>
  <dc:subject/>
  <dc:title>Le chien</dc:title>
</cp:coreProperties>
</file>