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ADA1-9C2E-488D-8451-794EBDB8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09FD-9613-460D-8990-72AF95AB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5E08-1305-4A47-A528-B795CDFB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4767-5A77-4D84-AE48-15D30571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E0B-91B0-4242-BB61-B66344DF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C2B-804F-4314-B5A3-F3F6BC8E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DC3-D9B6-4999-9AE2-6786E7D8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2CD-96CE-46BD-9E98-A78C3F7E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7B35-D792-4576-8010-A092829F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C8EF-0787-4B04-A75D-05650EC5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FF67-03B4-4E82-98EA-0E4EE9A3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58B-5336-44FC-85BF-7DA945CC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E2AB-9E2F-4962-94D2-412D5BF98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 socc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’est un sport d’équipe et j’en profite pour rencontrer mes am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 le pratique de manière ludique ou compétit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le pratique pour le plaisir, mais il arrive que mon équipe joue contre l’équipe du village d’à côt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20T17:52:45Z</dcterms:modified>
  <cp:revision>8</cp:revision>
  <dc:subject/>
  <dc:title>Le chien</dc:title>
</cp:coreProperties>
</file>