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717A-3C69-449B-823D-EEC6D958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FDE7-AF37-4340-85A2-DE694C21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9C1-0D21-4C37-904E-88C091DD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710-CB4D-46B8-993A-B476544B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8AF6-8E9F-4BCB-89C7-DD3AF234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68FE-32CD-4C49-9FED-39355653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F0F7-7960-4045-B629-688DFDCC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6612-9CE3-4F9C-8553-3B94333C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B545-BDD7-4B0D-A324-E16A48F9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BCA2-0C92-48C3-8AEC-D9E33536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8749-4AE2-4B46-89E0-B3099BFC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4D21-3DDD-4538-B507-6310A256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8DE4-3483-44AA-9B22-C7EC1825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EE5D-6DF7-47DC-83DD-A4F2E1A1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86B3-0FA7-4A37-9F3E-F64714D6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7F20-48E1-4E5A-AE37-D5081546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99E5-1D04-420A-AA26-50040C7A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070B-4F88-45B1-8429-96FE449A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1EA-F59E-49C3-9C8C-68D4906C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12CE-C5DE-42BA-9996-3C2C9673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B82-DB44-42A6-9C45-603AC1C8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F913-DBF3-4D79-BF63-D0EDDF18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7D70-BA1A-45F0-8ACB-3AB9C00C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30DB-4458-475C-92D9-8D3C388B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6A97-522E-4934-BF90-3474B5ED5D8F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48C5-CF4D-459F-AA80-E50D5CCAD9C6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99"/>
                </a:solidFill>
                <a:latin typeface="Arial"/>
              </a:rPr>
              <a:t>Mon nom est: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9185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99"/>
                </a:solidFill>
                <a:latin typeface="Arial"/>
              </a:rPr>
              <a:t>Mon sport préféré est :</a:t>
            </a:r>
            <a:br>
              <a:rPr sz="6000"/>
            </a:br>
            <a:br>
              <a:rPr sz="6000"/>
            </a:br>
            <a:r>
              <a:rPr b="0" lang="en-CA" sz="6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’est mon sport préféré parce que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 le pratique de manière ludique ou compétitive ?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18T18:57:51Z</dcterms:modified>
  <cp:revision>12</cp:revision>
  <dc:subject/>
  <dc:title>Le chien</dc:title>
</cp:coreProperties>
</file>