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4AC3-8BA2-4D3E-B926-91113AA9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5EA0-2832-490B-83C2-765E04E6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D4C-4813-4E6A-9A28-A204224C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597F-4FDA-4942-8E9E-91BEF66F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39F4-0E12-44F8-96F1-CA5E7898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807B-ACBD-4E29-9D14-6263DA72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94D7-F968-4F9D-8C8E-E0F749D7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52F9-65B6-494C-B07C-0DC66E33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5EAA-897C-4AF1-A59F-BB316E6D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C05E-3783-43BA-BEC5-0567CE93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7B3D-F6D9-4811-8EFC-F941C4E9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FAB-2462-40F0-B9D8-66036C62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2873-318E-41FF-B319-84A2CFD5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93E9-365F-4387-B5F4-9F2E7D5C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9122-4415-4306-8C61-6912F2C7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C0E8-94C7-4779-8C35-A0A8CD4A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7A9F-0778-43FE-AAF8-ADEA1A5F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EE7-F085-4EC6-B887-7123735A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566-E1F7-457F-9200-FE22AB84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846B-1A49-4640-909F-67F60E64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97A-7CBB-4700-A22D-B5138CCB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0C3B-0CD7-4489-AEDA-B451882E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D6D2-6B7B-41AA-A5E2-B90156B0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3438-D6BE-467F-A9CE-249B2EFB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CB75-EA96-4EAE-8AF0-8FACFEF3AC46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5500-A93C-43D5-BC1C-9E97535264D8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99"/>
                </a:solidFill>
                <a:latin typeface="Arial"/>
              </a:rPr>
              <a:t>Mon nom est: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9185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99"/>
                </a:solidFill>
                <a:latin typeface="Arial"/>
              </a:rPr>
              <a:t>Mon sport préféré est :</a:t>
            </a:r>
            <a:br>
              <a:rPr sz="6000"/>
            </a:br>
            <a:br>
              <a:rPr sz="6000"/>
            </a:br>
            <a:r>
              <a:rPr b="0" lang="en-CA" sz="6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’est mon sport préféré parce que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 le pratique de manière ludique ou compétitive ?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18T18:57:51Z</dcterms:modified>
  <cp:revision>12</cp:revision>
  <dc:subject/>
  <dc:title>Le chien</dc:title>
</cp:coreProperties>
</file>