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D56-5C4A-40A3-AB70-B9C6AD36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287-A3CC-4134-9FF4-2C81D79A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CFB-C216-40F1-8DC6-6F82A543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0AB-1A16-4A86-AF59-24E18BC1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C0F2-9E68-4410-BFFB-BD457157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C82C-36AB-4140-9B83-F6934A4B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B146-E4F7-47BD-88F8-79B9DEEE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E3B3-9556-43A1-B5B3-0B063B44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853F-F8AA-4EFC-9C7E-939E5042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C697-22E1-4003-90EB-D8E4C258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3D57-1F19-417E-883C-985E7A37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522-441C-42CF-BEC6-A59426D5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F4EE-BB25-4941-BE91-8111A46A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DAC3-B879-4C64-BBDD-90ABCDC8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E682-C085-4FE6-B036-73F246CF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7E9C-7093-443F-81C6-D1CA6C10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01B4-D8BB-42EA-92AB-B1390142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8B9-106B-4FBD-898E-5898FA5C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7B0-BEB0-4EEC-B874-5D019F25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7B8-7AC0-400B-8BCD-19CFC3C2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9D0-461D-47DF-A2A9-D18D2D22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E52-B964-4407-84F3-E4185372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2DD-B863-4740-946A-D6801A0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7FA-BE4B-472D-A1EA-01BCB8F1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5CF2-0883-4B97-957F-73789203E81B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BCD5-B8E5-42F9-801D-BB1ED03896D1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Mon nom est: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9185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Mon sport préféré est :</a:t>
            </a:r>
            <a:br>
              <a:rPr sz="6000"/>
            </a:br>
            <a:br>
              <a:rPr sz="6000"/>
            </a:b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’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57:51Z</dcterms:modified>
  <cp:revision>12</cp:revision>
  <dc:subject/>
  <dc:title>Le chien</dc:title>
</cp:coreProperties>
</file>