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1B7-32F6-47F1-8A80-35B9C286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882-7474-42B6-B720-1F93F6BA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CB9-E615-446A-B67E-DA5E95D8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5D1-D82C-46D5-A850-B4173B45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2E5E-494C-44C0-90E4-B8EF8396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DF2C-2B88-4F96-B1B2-35B5B23B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A892-7CC2-4C62-9540-F2818776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9824-F51A-49A1-AE4E-319652CC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E256-5CCF-4A3A-9F0B-6292B533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81BD-BBDB-4670-8593-D266B3C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A251-449A-4214-9A4E-CD2D7EB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B4B-F95C-492A-9621-135B091F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4851-63C6-4406-A47C-9B6365F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4225-A5F1-49F8-B951-CB1D832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5C2-B5FC-4F22-9A2A-359AA742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814B-0497-4776-A2ED-487C4CD1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9E44-44A4-474B-9B09-4FA461AB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800-3E96-4971-B280-3520F41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6C7-5002-4507-A99C-3ECED04A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B14-0C35-4946-8119-7B611958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B44-CFA0-4175-8277-CB9E711D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D2A-43BE-4031-AEEF-C4A82F03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497-AED1-47B5-B69F-7C6AFFB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148-1498-473D-A056-A45E723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2026-E4D7-4023-8D54-F75B234FC9AA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DE82-35E9-4127-A830-6D5088487B50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Mon nom est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185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Mon sport préféré est :</a:t>
            </a:r>
            <a:br>
              <a:rPr sz="6000"/>
            </a:br>
            <a:br>
              <a:rPr sz="6000"/>
            </a:b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’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57:51Z</dcterms:modified>
  <cp:revision>12</cp:revision>
  <dc:subject/>
  <dc:title>Le chien</dc:title>
</cp:coreProperties>
</file>