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C99-B872-488B-838D-C610F5ED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5C7-F277-4E4B-BE2F-5E2D581A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C5C-053C-4220-B1BF-40E78208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F30-9308-4BE2-BAE6-DC940080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FC56-5A91-4BA8-B4E6-89490BE9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0F60-7069-45FB-875D-65919350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9DCB-28B2-42C9-BA78-A7067AD7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75DD-1152-4785-A3D0-CFD9364D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8674-FA69-459C-95C0-5DDA182A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C508-258A-4163-B303-5316494E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A610-BEFE-4FBC-8CC8-D08FE2A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385-882F-448F-A0A5-4DC74D64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AFDA-D527-475E-889E-E5E5BB1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020D-A66D-434D-9D58-64218C9D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250C-154D-4B43-86F4-33B3DD6D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892C-2181-46C0-BACC-A1E74F93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F2D9-526D-4DC0-BD3C-636227CB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2C3-63CB-442F-B2B3-28B4DFAF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72F-F0FD-436F-9649-05FB6BDA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80E-F7AF-4B6D-A9AF-C62C486D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372-6A1C-4B93-B992-5583A228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FF9-978B-46E3-9A6E-A9B117D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048-8B80-4C8C-A942-0516A0FF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BF6-779B-45DC-9DE3-E95BFAEA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2892-B61E-4389-B64C-B24E47EE2E04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CE60-1EA5-4306-A451-399A816FB7DC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Mon nom est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9185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Mon sport préféré est :</a:t>
            </a:r>
            <a:br>
              <a:rPr sz="6000"/>
            </a:br>
            <a:br>
              <a:rPr sz="6000"/>
            </a:b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’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57:51Z</dcterms:modified>
  <cp:revision>12</cp:revision>
  <dc:subject/>
  <dc:title>Le chien</dc:title>
</cp:coreProperties>
</file>