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6B5-F22A-4699-BFCB-872D5495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714-3B20-446B-A299-6534098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61E-98F0-44E5-9480-B8F3A647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1F1-4A98-47BC-8CD8-6190933E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519-1F4C-4B67-BDDD-E7FC120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F74-D29E-4CE4-B96E-49FE9A03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53E-B781-4D0A-92A3-F0F0B1A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0A8-339C-4339-8D9D-9F1B36BC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0CF-E9F5-4B51-9EC3-13E5663C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D90-880D-4611-A3FD-3F52E31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B88-4E73-434C-B414-F58125B0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8F4-E946-4AF9-8CF2-16339C4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696-D44E-4A2B-976D-82A537FE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re de votre 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Élément perturb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énou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7:03Z</dcterms:created>
  <dc:creator>Paulette Hachez</dc:creator>
  <dc:description/>
  <dc:language>en-US</dc:language>
  <cp:lastModifiedBy>Paulette Hachez</cp:lastModifiedBy>
  <dcterms:modified xsi:type="dcterms:W3CDTF">2007-11-21T14:41:07Z</dcterms:modified>
  <cp:revision>2</cp:revision>
  <dc:subject/>
  <dc:title>Nom :</dc:title>
</cp:coreProperties>
</file>