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1AC-B721-4479-B8DF-281EC47F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10D-17FE-4011-BFA1-E23A68B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9A7-3C8C-4571-8239-EB47DFDE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D5E-E7D2-4D2A-AF2D-3AEE2F28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D2D-00AF-4913-B66E-33CE0B04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008-F5F5-4349-9B47-98EE5A72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08C-CBD5-42E3-A90E-782FFA24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1E2-B980-4F71-AE34-97B43401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4B2-3212-477D-A101-C85F08DB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1FE-41EC-4F25-B437-12EC51C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C0C-DC2B-4CF1-89BD-9FD07D5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7A2-2D00-4CDD-812A-3A289EC6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630F-7FAF-49A3-AD25-0F68BC27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re de votre 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init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Élément perturb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énou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37:03Z</dcterms:created>
  <dc:creator>Paulette Hachez</dc:creator>
  <dc:description/>
  <dc:language>en-US</dc:language>
  <cp:lastModifiedBy>Paulette Hachez</cp:lastModifiedBy>
  <dcterms:modified xsi:type="dcterms:W3CDTF">2007-11-21T14:41:07Z</dcterms:modified>
  <cp:revision>2</cp:revision>
  <dc:subject/>
  <dc:title>Nom :</dc:title>
</cp:coreProperties>
</file>