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1B7-84EB-4702-B319-2004CD65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529-D170-436A-9E37-B06A07B7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22B-89A3-4869-946C-5CF6C8D6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EA4-0DDD-4FE4-8ABF-6956E244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2B4-04E9-4691-8DEA-64AD9FC1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6BE-203E-4C02-88A0-90235BF7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C7F-592F-4214-92F9-CE6BE048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6BC-A34D-4A9F-90AD-0286DD02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A75-2CE7-4192-8E90-26F77E20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626-887D-44A6-9CE8-17E5172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06F-81D6-4301-9F70-54642195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71C-0EC9-4D83-9EA3-9CDB213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1017-A3A3-44C6-B02D-4D2FE69F0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4:39Z</dcterms:modified>
  <cp:revision>8</cp:revision>
  <dc:subject/>
  <dc:title>Le chien</dc:title>
</cp:coreProperties>
</file>