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471-6B46-45B4-8030-A612E8BA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DBAD-66BD-4703-8DFC-10366721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CD33-1C73-4679-A7D0-397DA5E6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80A-1853-426E-912B-2F4AC4FD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C7E-D461-47CC-B54E-1D93B00D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1D46-B534-4065-AB06-FF685061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3D7-99EE-409D-97BC-2E295E0E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CD36-5F8D-4718-98F6-77EE0D23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3360-AC74-4221-9A93-D6B508A8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58B0-7017-4C42-98BD-8ACA7F8F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46E8-B44C-460B-8895-A838A7BE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73E-25E1-4FFF-A687-6A6B5EF2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CB94-F6AC-48D2-8E05-014644C9C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 soc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pratique le soccer depuis que j’ai environ dix ans. C’est mon sport préféré parce que j’aime être active et me dépasser physiqu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tique de manière ludique ou compétitive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le pratique davantage de façon ludique, pour m’amuser avec mes amies. Toutefois, à l’âge de vingt ans, j’ai eu la chance de faire partie d’une équipe pour une sai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Josée Meunier</cp:lastModifiedBy>
  <dcterms:modified xsi:type="dcterms:W3CDTF">2007-11-20T04:10:08Z</dcterms:modified>
  <cp:revision>7</cp:revision>
  <dc:subject/>
  <dc:title>Le chien</dc:title>
</cp:coreProperties>
</file>